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491C-97FA-484D-9EFE-280512AAF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0B7A-C46C-47A3-A0FB-3778ECB7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65C7-D5B8-4451-8120-B069D0DD8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559A-4DDF-4DBD-A4F7-7F6A63FA6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3428-9F5C-4A32-9F27-88EE712C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32A8-613B-4389-A498-E3C8F471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BFA4-1B1B-486C-ADFA-0EC0DB3C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9883-BC21-4CD2-A081-C914CC79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557F-41BB-460B-9B09-A2B0731C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AB8F-EA7B-4AC8-9B7A-97C24B77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99F3-A85E-4CDE-84DD-FE189286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ED9F-9477-45BE-9A55-E86125FD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CD5B-CFB2-4116-8464-40949958295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58800" y="2284200"/>
            <a:ext cx="8161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ISTRIBUTED CONSTRAINT SATISFACTION PROBLEM E ARC-CONSIST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zioni di Intelligenza Artificiale 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i di Calcolatori 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cesca Nocer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cola 1711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7182000" y="3298680"/>
            <a:ext cx="199836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Times New Roman"/>
              </a:rPr>
              <a:t>Agent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ff"/>
                </a:solidFill>
                <a:latin typeface="Times New Roman"/>
              </a:rPr>
              <a:t>Vari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ff"/>
                </a:solidFill>
                <a:latin typeface="Times New Roman"/>
              </a:rPr>
              <a:t>x4::[1,2,5..33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ff"/>
                </a:solidFill>
                <a:latin typeface="Times New Roman"/>
              </a:rPr>
              <a:t>x5::[1..10,5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ff"/>
                </a:solidFill>
                <a:latin typeface="Times New Roman"/>
              </a:rPr>
              <a:t>x6::[1..5,9,1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ff"/>
                </a:solidFill>
                <a:latin typeface="Times New Roman"/>
              </a:rPr>
              <a:t>x7::[1..5,10..15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ff"/>
                </a:solidFill>
                <a:latin typeface="Times New Roman"/>
              </a:rPr>
              <a:t>Constra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ff"/>
                </a:solidFill>
                <a:latin typeface="Times New Roman"/>
              </a:rPr>
              <a:t>x4&lt;x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ff"/>
                </a:solidFill>
                <a:latin typeface="Times New Roman"/>
              </a:rPr>
              <a:t>x4=x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ff"/>
                </a:solidFill>
                <a:latin typeface="Times New Roman"/>
              </a:rPr>
              <a:t>x5&gt;=x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ff"/>
                </a:solidFill>
                <a:latin typeface="Times New Roman"/>
              </a:rPr>
              <a:t>x6&gt;x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ff"/>
                </a:solidFill>
                <a:latin typeface="Times New Roman"/>
              </a:rPr>
              <a:t>External Constra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ff"/>
                </a:solidFill>
                <a:latin typeface="Times New Roman"/>
              </a:rPr>
              <a:t>x4&lt;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ff"/>
                </a:solidFill>
                <a:latin typeface="Times New Roman"/>
              </a:rPr>
              <a:t>x7!=x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11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DCSP – Esempi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8480" y="3506400"/>
            <a:ext cx="1942920" cy="792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521320" y="379584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ff"/>
                </a:solidFill>
                <a:latin typeface="Times New Roman"/>
              </a:rPr>
              <a:t>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570120" y="43354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722400" y="408312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4073040" y="4514760"/>
            <a:ext cx="36036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219200" y="464184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354480" y="4514760"/>
            <a:ext cx="35856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282480" y="458784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209760" y="415620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X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714840" y="487512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X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218120" y="415620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X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112920" y="3795840"/>
            <a:ext cx="1584360" cy="158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585880" y="4489560"/>
            <a:ext cx="636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1625760" y="2355840"/>
            <a:ext cx="50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701720" y="2282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625760" y="3003480"/>
            <a:ext cx="50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626840" y="3003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308320" y="24987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277720" y="2643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489040" y="2319480"/>
            <a:ext cx="280836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858840" y="2066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ff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128680" y="314640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409760" y="264312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128680" y="213840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278000" y="1922400"/>
            <a:ext cx="1728720" cy="172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46000" y="2546280"/>
            <a:ext cx="636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346480" y="3506760"/>
            <a:ext cx="8632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419200" y="372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554880" y="2498760"/>
            <a:ext cx="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526080" y="2643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ff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657760" y="3327480"/>
            <a:ext cx="7207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74840" y="307512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ff"/>
                </a:solidFill>
                <a:latin typeface="Times New Roman"/>
              </a:rPr>
              <a:t>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657760" y="2319480"/>
            <a:ext cx="7207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878440" y="2066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ff"/>
                </a:solidFill>
                <a:latin typeface="Times New Roman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475240" y="2498760"/>
            <a:ext cx="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229000" y="2643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ff"/>
                </a:solidFill>
                <a:latin typeface="Times New Roman"/>
              </a:rPr>
              <a:t>&l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297400" y="3146400"/>
            <a:ext cx="360360" cy="36036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Times New Roman"/>
              </a:rPr>
              <a:t>X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297400" y="2138400"/>
            <a:ext cx="360360" cy="36036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Times New Roman"/>
              </a:rPr>
              <a:t>X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377040" y="3146400"/>
            <a:ext cx="360360" cy="36036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Times New Roman"/>
              </a:rPr>
              <a:t>X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377040" y="2138400"/>
            <a:ext cx="360360" cy="36036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Times New Roman"/>
              </a:rPr>
              <a:t>X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950000" y="1922400"/>
            <a:ext cx="2162160" cy="180036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110360" y="2546280"/>
            <a:ext cx="63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 flipV="1">
            <a:off x="4578480" y="3506400"/>
            <a:ext cx="1942920" cy="79236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521320" y="379584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66"/>
                </a:solidFill>
                <a:latin typeface="Times New Roman"/>
              </a:rPr>
              <a:t>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70120" y="4335480"/>
            <a:ext cx="6480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722400" y="408312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66"/>
                </a:solidFill>
                <a:latin typeface="Times New Roman"/>
              </a:rPr>
              <a:t>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4073040" y="4514760"/>
            <a:ext cx="360360" cy="5050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219200" y="464184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66"/>
                </a:solidFill>
                <a:latin typeface="Times New Roman"/>
              </a:rPr>
              <a:t>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346480" y="3506760"/>
            <a:ext cx="863280" cy="7923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419200" y="372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66"/>
                </a:solidFill>
                <a:latin typeface="Times New Roman"/>
              </a:rPr>
              <a:t>&l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354480" y="4514760"/>
            <a:ext cx="358560" cy="5050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282480" y="458784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66"/>
                </a:solidFill>
                <a:latin typeface="Times New Roman"/>
              </a:rPr>
              <a:t>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1625760" y="2355840"/>
            <a:ext cx="50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701720" y="2282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25760" y="3003480"/>
            <a:ext cx="50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26840" y="3003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308320" y="24987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277720" y="2643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554880" y="24987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526080" y="2643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489040" y="231948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858840" y="2066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657760" y="33274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74840" y="307512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657760" y="23194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78440" y="2066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475240" y="24987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229000" y="2643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297400" y="314640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X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297400" y="213840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X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128680" y="314640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409760" y="264312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128680" y="213840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209760" y="4156200"/>
            <a:ext cx="360360" cy="36036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66"/>
                </a:solidFill>
                <a:latin typeface="Times New Roman"/>
              </a:rPr>
              <a:t>X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714840" y="4875120"/>
            <a:ext cx="360360" cy="36036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66"/>
                </a:solidFill>
                <a:latin typeface="Times New Roman"/>
              </a:rPr>
              <a:t>X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377040" y="314640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X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218120" y="4156200"/>
            <a:ext cx="360360" cy="36036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66"/>
                </a:solidFill>
                <a:latin typeface="Times New Roman"/>
              </a:rPr>
              <a:t>X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377040" y="213840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X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278000" y="1922400"/>
            <a:ext cx="1728720" cy="172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12920" y="3795840"/>
            <a:ext cx="1584360" cy="158436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0000" y="1922400"/>
            <a:ext cx="2162160" cy="180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46000" y="2546280"/>
            <a:ext cx="636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585880" y="4489560"/>
            <a:ext cx="636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110360" y="2546280"/>
            <a:ext cx="63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11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DCSP – Esempio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254720" y="3292560"/>
            <a:ext cx="1781280" cy="30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66"/>
                </a:solidFill>
                <a:latin typeface="Times New Roman"/>
              </a:rPr>
              <a:t>Agent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66"/>
                </a:solidFill>
                <a:latin typeface="Times New Roman"/>
              </a:rPr>
              <a:t>Vari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66"/>
                </a:solidFill>
                <a:latin typeface="Times New Roman"/>
              </a:rPr>
              <a:t>x8::[1..5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66"/>
                </a:solidFill>
                <a:latin typeface="Times New Roman"/>
              </a:rPr>
              <a:t>x9::[1..5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66"/>
                </a:solidFill>
                <a:latin typeface="Times New Roman"/>
              </a:rPr>
              <a:t>x10::[1..5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66"/>
                </a:solidFill>
                <a:latin typeface="Times New Roman"/>
              </a:rPr>
              <a:t>Constra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66"/>
                </a:solidFill>
                <a:latin typeface="Times New Roman"/>
              </a:rPr>
              <a:t>x8&lt;=x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66"/>
                </a:solidFill>
                <a:latin typeface="Times New Roman"/>
              </a:rPr>
              <a:t>x8&gt;=x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66"/>
                </a:solidFill>
                <a:latin typeface="Times New Roman"/>
              </a:rPr>
              <a:t>x9&gt;=x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66"/>
                </a:solidFill>
                <a:latin typeface="Times New Roman"/>
              </a:rPr>
              <a:t>External Constra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66"/>
                </a:solidFill>
                <a:latin typeface="Times New Roman"/>
              </a:rPr>
              <a:t>x8&gt;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66"/>
                </a:solidFill>
                <a:latin typeface="Times New Roman"/>
              </a:rPr>
              <a:t>x9!=x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11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Distributed CSP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1187280" y="5445000"/>
            <a:ext cx="2448000" cy="1368360"/>
            <a:chOff x="1187280" y="5445000"/>
            <a:chExt cx="2448000" cy="1368360"/>
          </a:xfrm>
        </p:grpSpPr>
        <p:sp>
          <p:nvSpPr>
            <p:cNvPr id="529" name=""/>
            <p:cNvSpPr/>
            <p:nvPr/>
          </p:nvSpPr>
          <p:spPr>
            <a:xfrm>
              <a:off x="1187280" y="5445000"/>
              <a:ext cx="576000" cy="576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58920" y="5445000"/>
              <a:ext cx="576360" cy="576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123640" y="6237360"/>
              <a:ext cx="576360" cy="57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474560" y="6021360"/>
              <a:ext cx="64908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2700000" y="6021360"/>
              <a:ext cx="647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63280" y="573228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5292720" y="5445000"/>
            <a:ext cx="2448000" cy="1368360"/>
            <a:chOff x="5292720" y="5445000"/>
            <a:chExt cx="2448000" cy="1368360"/>
          </a:xfrm>
        </p:grpSpPr>
        <p:sp>
          <p:nvSpPr>
            <p:cNvPr id="536" name=""/>
            <p:cNvSpPr/>
            <p:nvPr/>
          </p:nvSpPr>
          <p:spPr>
            <a:xfrm>
              <a:off x="5292720" y="5445000"/>
              <a:ext cx="576360" cy="576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64360" y="5445000"/>
              <a:ext cx="576360" cy="576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869080" y="57322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92720" y="6237360"/>
              <a:ext cx="576360" cy="57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164360" y="6237360"/>
              <a:ext cx="576360" cy="57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69080" y="65246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754200" y="1626840"/>
            <a:ext cx="813888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lla struttura della rete costituita dagli agenti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non vengono posti vincoli di nessun tip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non c’è un ordinamento tra gli agenti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possono presentare dei cicli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la rete di agenti può non essere completamente conness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Ogni agente deve conoscere tutti i suoi vicini e, per ognuno di essi, sapere quali sono le variabili di cui questo è responsabile e che sono coinvolte in un vincolo esterno con una delle sua variabili local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Gli agenti comunicano attraverso lo scambio di messagg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è scelto di usare TCP\IP per avere la garanzia che i messaggi arrivino al più una volta e nell’ordine in cui sono stati inviat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3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8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1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9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9" dur="500"/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0" y="11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Messagg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55640" y="1670760"/>
            <a:ext cx="8569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sistono  nove tipi di messaggi che gli agenti possono scambiars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-information X1 Dom1 X2 Dom2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arc-no-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arc-first-marker num-mess-ricevuti numero-inizi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arc-first-waiting my-id numero-inizi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arc-waiting init-id numero-inizi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rc-not-waiting init-id numero-inizi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arc-message-travelling init-id numero-inizi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arc-marker num-mess-ricevuti init-id numero-inizi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arc-consistency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0" y="11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Inizializzazione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55640" y="1705680"/>
            <a:ext cx="755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zialmente ogni agente effettua la propagazione localmen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3419640" y="2682720"/>
            <a:ext cx="2949480" cy="3607200"/>
            <a:chOff x="3419640" y="2682720"/>
            <a:chExt cx="2949480" cy="3607200"/>
          </a:xfrm>
        </p:grpSpPr>
        <p:sp>
          <p:nvSpPr>
            <p:cNvPr id="548" name=""/>
            <p:cNvSpPr/>
            <p:nvPr/>
          </p:nvSpPr>
          <p:spPr>
            <a:xfrm>
              <a:off x="5467320" y="3866760"/>
              <a:ext cx="0" cy="6476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438520" y="40111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ff"/>
                  </a:solidFill>
                  <a:latin typeface="Times New Roman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570560" y="4695480"/>
              <a:ext cx="7207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787640" y="444312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ff"/>
                  </a:solidFill>
                  <a:latin typeface="Times New Roman"/>
                </a:rPr>
                <a:t>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570560" y="3687480"/>
              <a:ext cx="7207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790880" y="34351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ff"/>
                  </a:solidFill>
                  <a:latin typeface="Times New Roman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88040" y="3866760"/>
              <a:ext cx="0" cy="6476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141800" y="40111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ff"/>
                  </a:solidFill>
                  <a:latin typeface="Times New Roman"/>
                </a:rPr>
                <a:t>&l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210200" y="451440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ff"/>
                  </a:solidFill>
                  <a:latin typeface="Times New Roman"/>
                </a:rPr>
                <a:t>X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921840" y="4843080"/>
              <a:ext cx="88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ff"/>
                  </a:solidFill>
                  <a:latin typeface="Times New Roman"/>
                </a:rPr>
                <a:t>[1..10,5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210200" y="350640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ff"/>
                  </a:solidFill>
                  <a:latin typeface="Times New Roman"/>
                </a:rPr>
                <a:t>X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921840" y="32032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ff"/>
                  </a:solidFill>
                  <a:latin typeface="Times New Roman"/>
                </a:rPr>
                <a:t>[1,2,5..3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89480" y="451440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ff"/>
                  </a:solidFill>
                  <a:latin typeface="Times New Roman"/>
                </a:rPr>
                <a:t>X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000760" y="4843080"/>
              <a:ext cx="106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ff"/>
                  </a:solidFill>
                  <a:latin typeface="Times New Roman"/>
                </a:rPr>
                <a:t>[1..5,10..1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289480" y="350640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ff"/>
                  </a:solidFill>
                  <a:latin typeface="Times New Roman"/>
                </a:rPr>
                <a:t>X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014080" y="32032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ff"/>
                  </a:solidFill>
                  <a:latin typeface="Times New Roman"/>
                </a:rPr>
                <a:t>[1..5,9,1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788000" y="57798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r>
                <a:rPr b="0" lang="it-IT" sz="24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419640" y="2682720"/>
              <a:ext cx="2949480" cy="3024000"/>
            </a:xfrm>
            <a:prstGeom prst="ellipse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516720" y="2682720"/>
            <a:ext cx="2448000" cy="3607200"/>
            <a:chOff x="6516720" y="2682720"/>
            <a:chExt cx="2448000" cy="3607200"/>
          </a:xfrm>
        </p:grpSpPr>
        <p:sp>
          <p:nvSpPr>
            <p:cNvPr id="567" name=""/>
            <p:cNvSpPr/>
            <p:nvPr/>
          </p:nvSpPr>
          <p:spPr>
            <a:xfrm>
              <a:off x="7380360" y="3687480"/>
              <a:ext cx="647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532640" y="343512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66"/>
                  </a:solidFill>
                  <a:latin typeface="Times New Roman"/>
                </a:rPr>
                <a:t>≤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7883280" y="3866760"/>
              <a:ext cx="360360" cy="504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029440" y="399384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66"/>
                  </a:solidFill>
                  <a:latin typeface="Times New Roman"/>
                </a:rPr>
                <a:t>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164360" y="3866760"/>
              <a:ext cx="358920" cy="504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092720" y="393984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66"/>
                  </a:solidFill>
                  <a:latin typeface="Times New Roman"/>
                </a:rPr>
                <a:t>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020000" y="3508200"/>
              <a:ext cx="360360" cy="360360"/>
            </a:xfrm>
            <a:prstGeom prst="ellipse">
              <a:avLst/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0066"/>
                  </a:solidFill>
                  <a:latin typeface="Times New Roman"/>
                </a:rPr>
                <a:t>X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875640" y="318744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0066"/>
                  </a:solidFill>
                  <a:latin typeface="Times New Roman"/>
                </a:rPr>
                <a:t>[1..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524720" y="4227120"/>
              <a:ext cx="360360" cy="360360"/>
            </a:xfrm>
            <a:prstGeom prst="ellipse">
              <a:avLst/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0066"/>
                  </a:solidFill>
                  <a:latin typeface="Times New Roman"/>
                </a:rPr>
                <a:t>X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386840" y="460980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0066"/>
                  </a:solidFill>
                  <a:latin typeface="Times New Roman"/>
                </a:rPr>
                <a:t>[1..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028000" y="3508200"/>
              <a:ext cx="360360" cy="360360"/>
            </a:xfrm>
            <a:prstGeom prst="ellipse">
              <a:avLst/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0066"/>
                  </a:solidFill>
                  <a:latin typeface="Times New Roman"/>
                </a:rPr>
                <a:t>X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962840" y="3187440"/>
              <a:ext cx="5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0066"/>
                  </a:solidFill>
                  <a:latin typeface="Times New Roman"/>
                </a:rPr>
                <a:t>[1..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596360" y="57798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r>
                <a:rPr b="0" lang="it-IT" sz="24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16720" y="2682720"/>
              <a:ext cx="2448000" cy="3024000"/>
            </a:xfrm>
            <a:prstGeom prst="ellipse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755640" y="2682720"/>
            <a:ext cx="2448000" cy="3607200"/>
            <a:chOff x="755640" y="2682720"/>
            <a:chExt cx="2448000" cy="3607200"/>
          </a:xfrm>
        </p:grpSpPr>
        <p:sp>
          <p:nvSpPr>
            <p:cNvPr id="582" name=""/>
            <p:cNvSpPr/>
            <p:nvPr/>
          </p:nvSpPr>
          <p:spPr>
            <a:xfrm flipV="1">
              <a:off x="1690920" y="3708000"/>
              <a:ext cx="503280" cy="287280"/>
            </a:xfrm>
            <a:prstGeom prst="line">
              <a:avLst/>
            </a:prstGeom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766880" y="36349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9933"/>
                  </a:solidFill>
                  <a:latin typeface="Times New Roman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690920" y="4355640"/>
              <a:ext cx="503280" cy="287640"/>
            </a:xfrm>
            <a:prstGeom prst="line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692000" y="4355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9933"/>
                  </a:solidFill>
                  <a:latin typeface="Times New Roman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373480" y="3850920"/>
              <a:ext cx="0" cy="647640"/>
            </a:xfrm>
            <a:prstGeom prst="line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342880" y="39952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9933"/>
                  </a:solidFill>
                  <a:latin typeface="Times New Roman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194200" y="4498560"/>
              <a:ext cx="360360" cy="360360"/>
            </a:xfrm>
            <a:prstGeom prst="ellipse">
              <a:avLst/>
            </a:prstGeom>
            <a:noFill/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9933"/>
                  </a:solidFill>
                  <a:latin typeface="Times New Roman"/>
                </a:rPr>
                <a:t>X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113200" y="4825800"/>
              <a:ext cx="65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9933"/>
                  </a:solidFill>
                  <a:latin typeface="Times New Roman"/>
                </a:rPr>
                <a:t>[1,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474920" y="3995280"/>
              <a:ext cx="360360" cy="360360"/>
            </a:xfrm>
            <a:prstGeom prst="ellipse">
              <a:avLst/>
            </a:prstGeom>
            <a:noFill/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9933"/>
                  </a:solidFill>
                  <a:latin typeface="Times New Roman"/>
                </a:rPr>
                <a:t>X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26920" y="3995280"/>
              <a:ext cx="65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9933"/>
                  </a:solidFill>
                  <a:latin typeface="Times New Roman"/>
                </a:rPr>
                <a:t>[1..1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194200" y="3490560"/>
              <a:ext cx="360360" cy="360360"/>
            </a:xfrm>
            <a:prstGeom prst="ellipse">
              <a:avLst/>
            </a:prstGeom>
            <a:noFill/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9933"/>
                  </a:solidFill>
                  <a:latin typeface="Times New Roman"/>
                </a:rPr>
                <a:t>X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050920" y="3187440"/>
              <a:ext cx="65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9933"/>
                  </a:solidFill>
                  <a:latin typeface="Times New Roman"/>
                </a:rPr>
                <a:t>[1..1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55640" y="2682720"/>
              <a:ext cx="2448000" cy="3024000"/>
            </a:xfrm>
            <a:prstGeom prst="ellipse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835280" y="57798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it-IT" sz="2400" spc="-1" strike="noStrike" baseline="-25000">
                  <a:solidFill>
                    <a:srgbClr val="ff99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 flipV="1">
            <a:off x="2124000" y="3257640"/>
            <a:ext cx="505080" cy="21744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900000" y="4049640"/>
            <a:ext cx="505080" cy="21744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3851280" y="3330360"/>
            <a:ext cx="936720" cy="144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4932360" y="3330360"/>
            <a:ext cx="936720" cy="144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5075280" y="4914720"/>
            <a:ext cx="936720" cy="144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3995640" y="4914720"/>
            <a:ext cx="720720" cy="144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26920" y="3746520"/>
            <a:ext cx="6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9933"/>
                </a:solidFill>
                <a:latin typeface="Times New Roman"/>
              </a:rPr>
              <a:t>[2..1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050920" y="2898720"/>
            <a:ext cx="6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9933"/>
                </a:solidFill>
                <a:latin typeface="Times New Roman"/>
              </a:rPr>
              <a:t>[2..1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156280" y="511488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Times New Roman"/>
              </a:rPr>
              <a:t>[1..5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921480" y="511488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Times New Roman"/>
              </a:rPr>
              <a:t>[3..10,5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921480" y="297180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Times New Roman"/>
              </a:rPr>
              <a:t>[2,5,9,1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59800" y="297180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Times New Roman"/>
              </a:rPr>
              <a:t>[2,5,9,1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0" y="11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Inizializzazione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556000" y="3736800"/>
            <a:ext cx="779400" cy="779760"/>
          </a:xfrm>
          <a:prstGeom prst="ellipse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ff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240600" y="3718080"/>
            <a:ext cx="779400" cy="77940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368960" y="5241960"/>
            <a:ext cx="779400" cy="77940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335400" y="4125960"/>
            <a:ext cx="2892240" cy="0"/>
          </a:xfrm>
          <a:prstGeom prst="line">
            <a:avLst/>
          </a:prstGeom>
          <a:ln w="9360">
            <a:solidFill>
              <a:srgbClr val="ff9933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348000" y="3686040"/>
            <a:ext cx="26640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9933"/>
                </a:solidFill>
                <a:latin typeface="Times New Roman"/>
              </a:rPr>
              <a:t>arc-information  x2  [2..10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403280" y="4983120"/>
            <a:ext cx="2664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9933"/>
                </a:solidFill>
                <a:latin typeface="Times New Roman"/>
              </a:rPr>
              <a:t>arc-information  x3  [1,5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060720" y="4510080"/>
            <a:ext cx="1295280" cy="1079640"/>
          </a:xfrm>
          <a:prstGeom prst="line">
            <a:avLst/>
          </a:prstGeom>
          <a:ln w="9360">
            <a:solidFill>
              <a:srgbClr val="ff9933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62120" y="1624680"/>
            <a:ext cx="820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seguito invia a ciascun vicino un messagg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-information X1 Dom1 X2 Dom2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contenente le informazioni su tutte le variabili locali coinvolte in un vincolo esterno con tale vicin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5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0" y="11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Inizializzazione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62120" y="1624680"/>
            <a:ext cx="820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seguito invia a ciascun vicino un messagg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-information X1 Dom1 X2 Dom2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contenente le informazioni su tutte le variabili locali coinvolte in un vincolo esterno con tale vicin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556000" y="3736800"/>
            <a:ext cx="779400" cy="779760"/>
          </a:xfrm>
          <a:prstGeom prst="ellipse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ff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240600" y="3718080"/>
            <a:ext cx="779400" cy="77940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368960" y="5241960"/>
            <a:ext cx="779400" cy="77940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3335400" y="4125960"/>
            <a:ext cx="289224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419640" y="3686040"/>
            <a:ext cx="295272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arc-information  x4  [2,5,9,10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724360" y="4910040"/>
            <a:ext cx="26640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arc-information  x7  [1..5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5148360" y="4438800"/>
            <a:ext cx="1295280" cy="1150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0" y="11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Inizializzazione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556000" y="3736800"/>
            <a:ext cx="779400" cy="779760"/>
          </a:xfrm>
          <a:prstGeom prst="ellipse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ff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240600" y="3718080"/>
            <a:ext cx="779400" cy="77940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368960" y="5241960"/>
            <a:ext cx="779400" cy="77940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332000" y="4983120"/>
            <a:ext cx="266364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66"/>
                </a:solidFill>
                <a:latin typeface="Times New Roman"/>
              </a:rPr>
              <a:t>arc-information  x8  [1..5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 flipV="1">
            <a:off x="3060720" y="4509720"/>
            <a:ext cx="1295280" cy="10796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724360" y="4910040"/>
            <a:ext cx="26640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66"/>
                </a:solidFill>
                <a:latin typeface="Times New Roman"/>
              </a:rPr>
              <a:t>arc-information  x9  [1..5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5148360" y="4438440"/>
            <a:ext cx="1295280" cy="11509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62120" y="1624680"/>
            <a:ext cx="820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seguito invia a ciascun vicino un messagg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-information X1 Dom1 X2 Dom2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contenente le informazioni su tutte le variabili locali coinvolte in un vincolo esterno con tale vicin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7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9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0" y="11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Propagazione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55640" y="1683360"/>
            <a:ext cx="81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a ricezione dei messaggi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-informa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gni agente propaga di nuovo localmente, ma tenendo conto dei vincoli esterni relativi alle variabili di cui ha ricevuto informazion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906480" y="3187800"/>
            <a:ext cx="2448000" cy="3607200"/>
            <a:chOff x="906480" y="3187800"/>
            <a:chExt cx="2448000" cy="3607200"/>
          </a:xfrm>
        </p:grpSpPr>
        <p:sp>
          <p:nvSpPr>
            <p:cNvPr id="638" name=""/>
            <p:cNvSpPr/>
            <p:nvPr/>
          </p:nvSpPr>
          <p:spPr>
            <a:xfrm flipV="1">
              <a:off x="1841760" y="4213440"/>
              <a:ext cx="503280" cy="287280"/>
            </a:xfrm>
            <a:prstGeom prst="line">
              <a:avLst/>
            </a:prstGeom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917720" y="41403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9933"/>
                  </a:solidFill>
                  <a:latin typeface="Times New Roman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41760" y="4861080"/>
              <a:ext cx="503280" cy="287280"/>
            </a:xfrm>
            <a:prstGeom prst="line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43200" y="48610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9933"/>
                  </a:solidFill>
                  <a:latin typeface="Times New Roman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24320" y="4356000"/>
              <a:ext cx="0" cy="648000"/>
            </a:xfrm>
            <a:prstGeom prst="line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494080" y="45007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9933"/>
                  </a:solidFill>
                  <a:latin typeface="Times New Roman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345040" y="5004000"/>
              <a:ext cx="360360" cy="360360"/>
            </a:xfrm>
            <a:prstGeom prst="ellipse">
              <a:avLst/>
            </a:prstGeom>
            <a:noFill/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9933"/>
                  </a:solidFill>
                  <a:latin typeface="Times New Roman"/>
                </a:rPr>
                <a:t>X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264040" y="5330880"/>
              <a:ext cx="65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9933"/>
                  </a:solidFill>
                  <a:latin typeface="Times New Roman"/>
                </a:rPr>
                <a:t>[1,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625760" y="4500720"/>
              <a:ext cx="360360" cy="360360"/>
            </a:xfrm>
            <a:prstGeom prst="ellipse">
              <a:avLst/>
            </a:prstGeom>
            <a:noFill/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9933"/>
                  </a:solidFill>
                  <a:latin typeface="Times New Roman"/>
                </a:rPr>
                <a:t>X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978120" y="4500720"/>
              <a:ext cx="65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9933"/>
                  </a:solidFill>
                  <a:latin typeface="Times New Roman"/>
                </a:rPr>
                <a:t>[1..1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345040" y="3995640"/>
              <a:ext cx="360360" cy="360360"/>
            </a:xfrm>
            <a:prstGeom prst="ellipse">
              <a:avLst/>
            </a:prstGeom>
            <a:noFill/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9933"/>
                  </a:solidFill>
                  <a:latin typeface="Times New Roman"/>
                </a:rPr>
                <a:t>X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201760" y="3692520"/>
              <a:ext cx="65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9933"/>
                  </a:solidFill>
                  <a:latin typeface="Times New Roman"/>
                </a:rPr>
                <a:t>[1..1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906480" y="3187800"/>
              <a:ext cx="2448000" cy="3024000"/>
            </a:xfrm>
            <a:prstGeom prst="ellipse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986120" y="628488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it-IT" sz="2400" spc="-1" strike="noStrike" baseline="-25000">
                  <a:solidFill>
                    <a:srgbClr val="ff99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5003640" y="4110840"/>
            <a:ext cx="39610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.: </a:t>
            </a:r>
            <a:r>
              <a:rPr b="0" lang="it-IT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ff9933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ice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arc-information  x8  [1..5]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e primo messaggi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2346480" y="5446440"/>
            <a:ext cx="360360" cy="14292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122920" y="557388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9933"/>
                </a:solidFill>
                <a:latin typeface="Times New Roman"/>
              </a:rPr>
              <a:t>[1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2706840" y="4870440"/>
            <a:ext cx="1793520" cy="794160"/>
            <a:chOff x="2706840" y="4870440"/>
            <a:chExt cx="1793520" cy="794160"/>
          </a:xfrm>
        </p:grpSpPr>
        <p:sp>
          <p:nvSpPr>
            <p:cNvPr id="656" name=""/>
            <p:cNvSpPr/>
            <p:nvPr/>
          </p:nvSpPr>
          <p:spPr>
            <a:xfrm>
              <a:off x="4003920" y="5013000"/>
              <a:ext cx="360360" cy="36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X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932640" y="535752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[1..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706840" y="5157360"/>
              <a:ext cx="1297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359160" y="48704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9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0" y="11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Propagazione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55640" y="1779840"/>
            <a:ext cx="80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seguito a ogni propagazione ciascun agente può aver modificato il dominio di alcune delle sue variabili locali. Ad ogni vicino coinvolto in almeno un vincolo esterno la cui variabile locale è stata modificata viene mandato un nuovo messaggi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-informa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484360" y="3808440"/>
            <a:ext cx="779400" cy="779400"/>
          </a:xfrm>
          <a:prstGeom prst="ellipse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ff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168960" y="3789360"/>
            <a:ext cx="779400" cy="77940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297320" y="5313240"/>
            <a:ext cx="779400" cy="77976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332000" y="5054760"/>
            <a:ext cx="266364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9933"/>
                </a:solidFill>
                <a:latin typeface="Times New Roman"/>
              </a:rPr>
              <a:t>arc-information  x3  [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132000" y="4508640"/>
            <a:ext cx="1224000" cy="1008000"/>
          </a:xfrm>
          <a:prstGeom prst="line">
            <a:avLst/>
          </a:prstGeom>
          <a:ln w="9360">
            <a:solidFill>
              <a:srgbClr val="ff9933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9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55640" y="1812960"/>
            <a:ext cx="8064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Un problema di soddisfacimento di vincoli è definito d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un insieme di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variabili (X1,X2…Xn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un dominio discreto per ogni variabile (D1,D2…Dn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un insieme di vincoli su queste variabil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La soluzione di un problema di soddisfacimento di vincoli è un assegnamento di valori alle variabili consistente con i vincol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enza perdita di generalità si può supporre che tutti i vincoli siano binar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Un problema di soddisfacimento di vincoli si può rappresentare con un grafo detto constraintgraph, in cui alle variabili corrispondono i nodi e ai vincoli gli (iper)-arch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1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Constraint Satisfaction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0" y="11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Stati degli agenti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54200" y="1666440"/>
            <a:ext cx="80658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gni agente ha uno stato, i possibili stati in cui può trovarsi un agente son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wa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l’agente non sta effettuando localmente alcuna propagazione ed è in attesa che gli arrivino dei messaggi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-informati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i vicini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ot wa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l’agente sta propagando localmente o inviando ai vicini dei messaggi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-informa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siste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in questo stato l’agente sa che è stata raggiunta la consistenz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mpossi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in questo stato l’agente sa che il problema non ammette soluzion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9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0" y="11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Stati degli agenti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588000" y="1484280"/>
            <a:ext cx="2016360" cy="1152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NW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not-wa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impo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consis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387440" y="3597120"/>
            <a:ext cx="9511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125960" y="5056200"/>
            <a:ext cx="1138320" cy="1181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43280" y="3267000"/>
            <a:ext cx="5046480" cy="506520"/>
          </a:xfrm>
          <a:custGeom>
            <a:avLst/>
            <a:gdLst/>
            <a:ahLst/>
            <a:rect l="l" t="t" r="r" b="b"/>
            <a:pathLst>
              <a:path w="4500" h="360">
                <a:moveTo>
                  <a:pt x="0" y="360"/>
                </a:moveTo>
                <a:cubicBezTo>
                  <a:pt x="795" y="180"/>
                  <a:pt x="1590" y="0"/>
                  <a:pt x="2340" y="0"/>
                </a:cubicBezTo>
                <a:cubicBezTo>
                  <a:pt x="3090" y="0"/>
                  <a:pt x="4140" y="300"/>
                  <a:pt x="4500" y="360"/>
                </a:cubicBez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rot="10800000">
            <a:off x="2039400" y="4167000"/>
            <a:ext cx="5024520" cy="485640"/>
          </a:xfrm>
          <a:custGeom>
            <a:avLst/>
            <a:gdLst/>
            <a:ahLst/>
            <a:rect l="l" t="t" r="r" b="b"/>
            <a:pathLst>
              <a:path w="4500" h="360">
                <a:moveTo>
                  <a:pt x="0" y="360"/>
                </a:moveTo>
                <a:cubicBezTo>
                  <a:pt x="795" y="180"/>
                  <a:pt x="1590" y="0"/>
                  <a:pt x="2340" y="0"/>
                </a:cubicBezTo>
                <a:cubicBezTo>
                  <a:pt x="3090" y="0"/>
                  <a:pt x="4140" y="300"/>
                  <a:pt x="4500" y="360"/>
                </a:cubicBez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849320" y="4454640"/>
            <a:ext cx="2284560" cy="11890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5262480" y="4454640"/>
            <a:ext cx="2106720" cy="11937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1849320" y="2077920"/>
            <a:ext cx="2284560" cy="1387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276720" y="3325680"/>
            <a:ext cx="34257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ricezione arc-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844720" y="4202280"/>
            <a:ext cx="361800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propagazione locale se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modifiche rilevanti per i vici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349280" y="2293920"/>
            <a:ext cx="18543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ric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arc-consist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730520" y="4921200"/>
            <a:ext cx="161748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ric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arc-no-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608880" y="4773600"/>
            <a:ext cx="2500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ricezione arc-no-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o fallimento loc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900000" y="3378240"/>
            <a:ext cx="1139760" cy="1181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969240" y="3279600"/>
            <a:ext cx="1137960" cy="1181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N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154400" y="1503360"/>
            <a:ext cx="1138320" cy="1181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284720" y="6093000"/>
            <a:ext cx="792000" cy="576000"/>
          </a:xfrm>
          <a:custGeom>
            <a:avLst/>
            <a:gdLst/>
            <a:ahLst/>
            <a:rect l="l" t="t" r="r" b="b"/>
            <a:pathLst>
              <a:path w="499" h="370">
                <a:moveTo>
                  <a:pt x="23" y="0"/>
                </a:moveTo>
                <a:cubicBezTo>
                  <a:pt x="11" y="132"/>
                  <a:pt x="0" y="264"/>
                  <a:pt x="68" y="317"/>
                </a:cubicBezTo>
                <a:cubicBezTo>
                  <a:pt x="136" y="370"/>
                  <a:pt x="363" y="370"/>
                  <a:pt x="431" y="317"/>
                </a:cubicBezTo>
                <a:cubicBezTo>
                  <a:pt x="499" y="264"/>
                  <a:pt x="488" y="132"/>
                  <a:pt x="477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114880" y="6145200"/>
            <a:ext cx="161784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ric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arc-no-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6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4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8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4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0" y="11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Termina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55640" y="1807920"/>
            <a:ext cx="806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li agenti possono terminare per due ragion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l problema non ammette alcuna soluzione, cioè almeno un agente si accorge che il dominio di almeno una delle variabili di cui è responsabile è vuoto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’arc-consistenza è stata raggiunta, cioè non è più possibile, per nessun agente, eliminare dei valori dal dominio di nessuna variabi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1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0" y="11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Problema impossib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55640" y="1669320"/>
            <a:ext cx="8137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 durante la propagazione locale un agente si accorge  che non c’è soluzione invia a tutti i suoi vicini il messaggi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-no-solu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po aver aggiornato il suo stato, che diventa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mpossi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e prima di terminar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a ricezione di un messaggi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-no-solu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gni agente, se il suo stato non è già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mpossi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mbia il suo stato, avvisa i vicini e termina a sua volt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e ricezione di u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-no-solu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è necessario che un agente verifichi il proprio stato, per evitare di mandare messaggi inutili, infatt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 conclusione che il problema è impossibile può essere raggiunta da più agenti autonomament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 essendo stati imposti vincoli strutturali alla rete, un stesso agente può essere avvisato da più di un vicin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8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0" y="11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Arc-consistenz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55640" y="1738080"/>
            <a:ext cx="80643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Dire che l’arc-consistenza è stata raggiunta significa dire che tutti gli agenti si trovano in stato di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waiting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Per rilevare questo stato globale si usa un algoritmo di global state detection del tipo proposto da Chandy e Lamport e si introduce un nuovo agente, detto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morizza lo stato di tutti gli agenti e, appena si accorge che essi si trovano tutti contemporaneamente nello stato di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i avvisa che è stata raggiunta la consistenza col messaggi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rc-consistenc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lla ricezione del quale ogni agente sa che può terminar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5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0" y="11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Arc-consistenz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55640" y="1737000"/>
            <a:ext cx="8137440" cy="29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Quando un agente, in seguito alla propagazione locale, non deve mandar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-informa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 nessuno esegue le seguenti operazion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nde l’iniziativa di registrare il suo stato, che è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wa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via ai suoi vicini il messagg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-first-marker num-mess-ricevuti numero-inizi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 informarli che per lui potrebbe essere stata raggiunta la consistenz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via al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l messagg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-first-waiting my-id numero-inizi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2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0" y="11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Arc-consistenza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55640" y="1670400"/>
            <a:ext cx="806436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a ricezione di u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-first-mark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n agente esegue le seguenti operazion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 i messaggi che ha inviato sono stati tutti ricevuti ed è anche lui in stato di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waiting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via al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n messagg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-waiting init-id numero-inizi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 i messaggi che ha inviato sono stati tutti ricevuti, ma lui non è in stato di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waiting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via al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n messagg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rc-not-waiting init-id numero-inizi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 i messaggi che ha inviato non sono stati tutti ricevuti invia al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l messagg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-message-travelling init-id numero-inizi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via a ogni suo vicino un messagg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-marker num-mess-ricevuti init-id numero-inizi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0" y="11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Arc-consistenza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55640" y="1698480"/>
            <a:ext cx="80643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a ricezione di u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rc-mark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gni agente si comporta come alla ricezione di u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rc-first-mark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ispettando la seguentea regola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orizzare i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ark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viati e non inviare mai due volte u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ark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n gli stessi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-i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umero-iniziativ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; ciò serve per evitare un loop infinito in cui gli agenti continuano a far girar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ark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ella rete, in quanto, non essendo stati posti vincoli di nessun tipo sulla struttura della rete, un agente potrebbe ricevere due volte lo stesso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ark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 due vicini divers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6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0" y="11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Arc-consistenza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627960" y="5241960"/>
            <a:ext cx="12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Mon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227640" y="2940120"/>
            <a:ext cx="648000" cy="360360"/>
          </a:xfrm>
          <a:prstGeom prst="rect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33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875640" y="2940120"/>
            <a:ext cx="647640" cy="360360"/>
          </a:xfrm>
          <a:prstGeom prst="rect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N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523280" y="2940120"/>
            <a:ext cx="647640" cy="360360"/>
          </a:xfrm>
          <a:prstGeom prst="rect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66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227640" y="2506680"/>
            <a:ext cx="648000" cy="433440"/>
          </a:xfrm>
          <a:prstGeom prst="rect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ff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875640" y="2506680"/>
            <a:ext cx="647640" cy="433440"/>
          </a:xfrm>
          <a:prstGeom prst="rect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523280" y="2506680"/>
            <a:ext cx="647640" cy="433440"/>
          </a:xfrm>
          <a:prstGeom prst="rect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227640" y="4376880"/>
            <a:ext cx="648000" cy="360360"/>
          </a:xfrm>
          <a:prstGeom prst="rect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875640" y="4376880"/>
            <a:ext cx="647640" cy="360360"/>
          </a:xfrm>
          <a:prstGeom prst="rect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523280" y="4376880"/>
            <a:ext cx="647640" cy="360360"/>
          </a:xfrm>
          <a:prstGeom prst="rect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580000" y="2073240"/>
            <a:ext cx="3168720" cy="3097080"/>
          </a:xfrm>
          <a:prstGeom prst="ellipse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732720" y="3298680"/>
            <a:ext cx="93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33cc33"/>
                </a:solidFill>
                <a:latin typeface="Times New Roman"/>
              </a:rPr>
              <a:t>. .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826920" y="3225960"/>
            <a:ext cx="779760" cy="779400"/>
          </a:xfrm>
          <a:prstGeom prst="ellipse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ff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216240" y="1222200"/>
            <a:ext cx="779400" cy="77976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203640" y="5745240"/>
            <a:ext cx="779400" cy="77940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1332000" y="1785960"/>
            <a:ext cx="1942920" cy="1440000"/>
          </a:xfrm>
          <a:prstGeom prst="line">
            <a:avLst/>
          </a:prstGeom>
          <a:ln w="9360">
            <a:solidFill>
              <a:srgbClr val="ff9933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84360" y="3225960"/>
            <a:ext cx="2664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9933"/>
                </a:solidFill>
                <a:latin typeface="Times New Roman"/>
              </a:rPr>
              <a:t>arc-first-waiting A</a:t>
            </a:r>
            <a:r>
              <a:rPr b="1" lang="it-IT" sz="1600" spc="-1" strike="noStrike" baseline="-25000">
                <a:solidFill>
                  <a:srgbClr val="ff9933"/>
                </a:solidFill>
                <a:latin typeface="Times New Roman"/>
              </a:rPr>
              <a:t>1  </a:t>
            </a:r>
            <a:r>
              <a:rPr b="1" lang="it-IT" sz="1600" spc="-1" strike="noStrike">
                <a:solidFill>
                  <a:srgbClr val="ff9933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268360" y="2362320"/>
            <a:ext cx="2664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9933"/>
                </a:solidFill>
                <a:latin typeface="Times New Roman"/>
              </a:rPr>
              <a:t>arc-first-marker   3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332000" y="4017960"/>
            <a:ext cx="1871640" cy="1944720"/>
          </a:xfrm>
          <a:prstGeom prst="line">
            <a:avLst/>
          </a:prstGeom>
          <a:ln w="9360">
            <a:solidFill>
              <a:srgbClr val="ff9933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268360" y="4737240"/>
            <a:ext cx="266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9933"/>
                </a:solidFill>
                <a:latin typeface="Times New Roman"/>
              </a:rPr>
              <a:t>arc-first-marker  2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619280" y="3586320"/>
            <a:ext cx="3960720" cy="0"/>
          </a:xfrm>
          <a:prstGeom prst="line">
            <a:avLst/>
          </a:prstGeom>
          <a:ln w="9360">
            <a:solidFill>
              <a:srgbClr val="ff9933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227640" y="3297240"/>
            <a:ext cx="0" cy="1081080"/>
          </a:xfrm>
          <a:prstGeom prst="line">
            <a:avLst/>
          </a:prstGeom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172360" y="3297240"/>
            <a:ext cx="0" cy="1081080"/>
          </a:xfrm>
          <a:prstGeom prst="line">
            <a:avLst/>
          </a:prstGeom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227640" y="4373640"/>
            <a:ext cx="648000" cy="360360"/>
          </a:xfrm>
          <a:prstGeom prst="rect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33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733000" y="33321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9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5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1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0" y="11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Arc-consistenza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627960" y="5241960"/>
            <a:ext cx="12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Mon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227640" y="2940120"/>
            <a:ext cx="648000" cy="360360"/>
          </a:xfrm>
          <a:prstGeom prst="rect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33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875640" y="2940120"/>
            <a:ext cx="647640" cy="360360"/>
          </a:xfrm>
          <a:prstGeom prst="rect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N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523280" y="2940120"/>
            <a:ext cx="647640" cy="360360"/>
          </a:xfrm>
          <a:prstGeom prst="rect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66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227640" y="2506680"/>
            <a:ext cx="648000" cy="433440"/>
          </a:xfrm>
          <a:prstGeom prst="rect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ff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875640" y="2506680"/>
            <a:ext cx="647640" cy="433440"/>
          </a:xfrm>
          <a:prstGeom prst="rect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523280" y="2506680"/>
            <a:ext cx="647640" cy="433440"/>
          </a:xfrm>
          <a:prstGeom prst="rect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227640" y="4376880"/>
            <a:ext cx="648000" cy="360360"/>
          </a:xfrm>
          <a:prstGeom prst="rect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875640" y="4376880"/>
            <a:ext cx="647640" cy="360360"/>
          </a:xfrm>
          <a:prstGeom prst="rect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523280" y="4376880"/>
            <a:ext cx="647640" cy="360360"/>
          </a:xfrm>
          <a:prstGeom prst="rect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580000" y="2073240"/>
            <a:ext cx="3168720" cy="3097080"/>
          </a:xfrm>
          <a:prstGeom prst="ellipse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732720" y="3298680"/>
            <a:ext cx="93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33cc33"/>
                </a:solidFill>
                <a:latin typeface="Times New Roman"/>
              </a:rPr>
              <a:t>. .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826920" y="3225960"/>
            <a:ext cx="779760" cy="779400"/>
          </a:xfrm>
          <a:prstGeom prst="ellipse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ff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16240" y="1222200"/>
            <a:ext cx="779400" cy="77976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203640" y="5745240"/>
            <a:ext cx="779400" cy="77940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564000" y="2001960"/>
            <a:ext cx="0" cy="3671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211640" y="1682640"/>
            <a:ext cx="26640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arc-waiting A</a:t>
            </a:r>
            <a:r>
              <a:rPr b="1" lang="it-IT" sz="1600" spc="-1" strike="noStrike" baseline="-25000">
                <a:solidFill>
                  <a:srgbClr val="0000ff"/>
                </a:solidFill>
                <a:latin typeface="Times New Roman"/>
              </a:rPr>
              <a:t>1  </a:t>
            </a: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708360" y="4941720"/>
            <a:ext cx="208764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arc-marker  1  A</a:t>
            </a:r>
            <a:r>
              <a:rPr b="1" lang="it-IT" sz="1600" spc="-1" strike="noStrike" baseline="-25000">
                <a:solidFill>
                  <a:srgbClr val="0000ff"/>
                </a:solidFill>
                <a:latin typeface="Times New Roman"/>
              </a:rPr>
              <a:t>1  </a:t>
            </a: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995640" y="1785960"/>
            <a:ext cx="1728720" cy="1079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227640" y="3297240"/>
            <a:ext cx="0" cy="1081080"/>
          </a:xfrm>
          <a:prstGeom prst="line">
            <a:avLst/>
          </a:prstGeom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172360" y="3297240"/>
            <a:ext cx="0" cy="1081080"/>
          </a:xfrm>
          <a:prstGeom prst="line">
            <a:avLst/>
          </a:prstGeom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227640" y="4373640"/>
            <a:ext cx="648000" cy="360360"/>
          </a:xfrm>
          <a:prstGeom prst="rect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33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875640" y="4373640"/>
            <a:ext cx="647640" cy="360360"/>
          </a:xfrm>
          <a:prstGeom prst="rect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733000" y="33321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1476000" y="1844640"/>
            <a:ext cx="1800360" cy="1513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28720" y="1916280"/>
            <a:ext cx="20145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arc-marker 2  A</a:t>
            </a:r>
            <a:r>
              <a:rPr b="1" lang="it-IT" sz="1600" spc="-1" strike="noStrike" baseline="-25000">
                <a:solidFill>
                  <a:srgbClr val="0000ff"/>
                </a:solidFill>
                <a:latin typeface="Times New Roman"/>
              </a:rPr>
              <a:t>1  </a:t>
            </a: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6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1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4522680" y="3787920"/>
            <a:ext cx="1942920" cy="792000"/>
            <a:chOff x="4522680" y="3787920"/>
            <a:chExt cx="1942920" cy="792000"/>
          </a:xfrm>
        </p:grpSpPr>
        <p:sp>
          <p:nvSpPr>
            <p:cNvPr id="45" name=""/>
            <p:cNvSpPr/>
            <p:nvPr/>
          </p:nvSpPr>
          <p:spPr>
            <a:xfrm flipV="1">
              <a:off x="4522680" y="3787920"/>
              <a:ext cx="194292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65520" y="4076640"/>
              <a:ext cx="28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3514680" y="4363920"/>
            <a:ext cx="647640" cy="307080"/>
            <a:chOff x="3514680" y="4363920"/>
            <a:chExt cx="647640" cy="307080"/>
          </a:xfrm>
        </p:grpSpPr>
        <p:sp>
          <p:nvSpPr>
            <p:cNvPr id="48" name=""/>
            <p:cNvSpPr/>
            <p:nvPr/>
          </p:nvSpPr>
          <p:spPr>
            <a:xfrm>
              <a:off x="3514680" y="461664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666240" y="436392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≤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017600" y="4795920"/>
            <a:ext cx="424440" cy="504720"/>
            <a:chOff x="4017600" y="4795920"/>
            <a:chExt cx="424440" cy="504720"/>
          </a:xfrm>
        </p:grpSpPr>
        <p:sp>
          <p:nvSpPr>
            <p:cNvPr id="51" name=""/>
            <p:cNvSpPr/>
            <p:nvPr/>
          </p:nvSpPr>
          <p:spPr>
            <a:xfrm flipH="1">
              <a:off x="4017600" y="4795920"/>
              <a:ext cx="36036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163760" y="492300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290680" y="3787920"/>
            <a:ext cx="863640" cy="792000"/>
            <a:chOff x="2290680" y="3787920"/>
            <a:chExt cx="863640" cy="792000"/>
          </a:xfrm>
        </p:grpSpPr>
        <p:sp>
          <p:nvSpPr>
            <p:cNvPr id="54" name=""/>
            <p:cNvSpPr/>
            <p:nvPr/>
          </p:nvSpPr>
          <p:spPr>
            <a:xfrm>
              <a:off x="2290680" y="3787920"/>
              <a:ext cx="8636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363400" y="40053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227040" y="4795920"/>
            <a:ext cx="430560" cy="504720"/>
            <a:chOff x="3227040" y="4795920"/>
            <a:chExt cx="430560" cy="504720"/>
          </a:xfrm>
        </p:grpSpPr>
        <p:sp>
          <p:nvSpPr>
            <p:cNvPr id="57" name=""/>
            <p:cNvSpPr/>
            <p:nvPr/>
          </p:nvSpPr>
          <p:spPr>
            <a:xfrm>
              <a:off x="3299040" y="4795920"/>
              <a:ext cx="35856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27040" y="486900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1569960" y="2563920"/>
            <a:ext cx="503280" cy="360360"/>
            <a:chOff x="1569960" y="2563920"/>
            <a:chExt cx="503280" cy="360360"/>
          </a:xfrm>
        </p:grpSpPr>
        <p:sp>
          <p:nvSpPr>
            <p:cNvPr id="60" name=""/>
            <p:cNvSpPr/>
            <p:nvPr/>
          </p:nvSpPr>
          <p:spPr>
            <a:xfrm flipV="1">
              <a:off x="1569960" y="2637000"/>
              <a:ext cx="5032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5920" y="25639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569960" y="3284640"/>
            <a:ext cx="503280" cy="307080"/>
            <a:chOff x="1569960" y="3284640"/>
            <a:chExt cx="503280" cy="307080"/>
          </a:xfrm>
        </p:grpSpPr>
        <p:sp>
          <p:nvSpPr>
            <p:cNvPr id="63" name=""/>
            <p:cNvSpPr/>
            <p:nvPr/>
          </p:nvSpPr>
          <p:spPr>
            <a:xfrm>
              <a:off x="1569960" y="3284640"/>
              <a:ext cx="503280" cy="28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71400" y="3284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222280" y="2779560"/>
            <a:ext cx="282960" cy="647640"/>
            <a:chOff x="2222280" y="2779560"/>
            <a:chExt cx="282960" cy="647640"/>
          </a:xfrm>
        </p:grpSpPr>
        <p:sp>
          <p:nvSpPr>
            <p:cNvPr id="66" name=""/>
            <p:cNvSpPr/>
            <p:nvPr/>
          </p:nvSpPr>
          <p:spPr>
            <a:xfrm>
              <a:off x="2252880" y="27795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22280" y="29239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470280" y="2779560"/>
            <a:ext cx="282960" cy="647640"/>
            <a:chOff x="6470280" y="2779560"/>
            <a:chExt cx="282960" cy="647640"/>
          </a:xfrm>
        </p:grpSpPr>
        <p:sp>
          <p:nvSpPr>
            <p:cNvPr id="69" name=""/>
            <p:cNvSpPr/>
            <p:nvPr/>
          </p:nvSpPr>
          <p:spPr>
            <a:xfrm>
              <a:off x="6499080" y="27795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70280" y="29239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433600" y="2347920"/>
            <a:ext cx="2808360" cy="307080"/>
            <a:chOff x="2433600" y="2347920"/>
            <a:chExt cx="2808360" cy="307080"/>
          </a:xfrm>
        </p:grpSpPr>
        <p:sp>
          <p:nvSpPr>
            <p:cNvPr id="72" name=""/>
            <p:cNvSpPr/>
            <p:nvPr/>
          </p:nvSpPr>
          <p:spPr>
            <a:xfrm>
              <a:off x="2433600" y="2600280"/>
              <a:ext cx="28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03400" y="23479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602320" y="3355920"/>
            <a:ext cx="720720" cy="307080"/>
            <a:chOff x="5602320" y="3355920"/>
            <a:chExt cx="720720" cy="307080"/>
          </a:xfrm>
        </p:grpSpPr>
        <p:sp>
          <p:nvSpPr>
            <p:cNvPr id="75" name=""/>
            <p:cNvSpPr/>
            <p:nvPr/>
          </p:nvSpPr>
          <p:spPr>
            <a:xfrm>
              <a:off x="5602320" y="360828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819400" y="335592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602320" y="2347920"/>
            <a:ext cx="720720" cy="307080"/>
            <a:chOff x="5602320" y="2347920"/>
            <a:chExt cx="720720" cy="307080"/>
          </a:xfrm>
        </p:grpSpPr>
        <p:sp>
          <p:nvSpPr>
            <p:cNvPr id="78" name=""/>
            <p:cNvSpPr/>
            <p:nvPr/>
          </p:nvSpPr>
          <p:spPr>
            <a:xfrm>
              <a:off x="5602320" y="260028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22640" y="23479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173560" y="2779560"/>
            <a:ext cx="282960" cy="647640"/>
            <a:chOff x="5173560" y="2779560"/>
            <a:chExt cx="282960" cy="647640"/>
          </a:xfrm>
        </p:grpSpPr>
        <p:sp>
          <p:nvSpPr>
            <p:cNvPr id="81" name=""/>
            <p:cNvSpPr/>
            <p:nvPr/>
          </p:nvSpPr>
          <p:spPr>
            <a:xfrm>
              <a:off x="5419800" y="27795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73560" y="29239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7613640" y="1114560"/>
            <a:ext cx="142236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x1::[1..1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x2::[1..1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x3::[1,5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x4::[1,2,5..33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x5::[1..10,5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x6::[1..5,9,1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x7::[1..5,10..15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x8::[1..5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x9::[1..5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x10::[1..5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x1=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x1&gt;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x2&gt;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x2&gt;x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x3&lt;x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x4&lt;x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x4=x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x5&gt;=x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x6&gt;x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x7!=x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x8&lt;=x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x8&gt;=x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x9&gt;=x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377240" y="3427560"/>
            <a:ext cx="1224720" cy="360360"/>
            <a:chOff x="4377240" y="3427560"/>
            <a:chExt cx="1224720" cy="360360"/>
          </a:xfrm>
        </p:grpSpPr>
        <p:sp>
          <p:nvSpPr>
            <p:cNvPr id="85" name=""/>
            <p:cNvSpPr/>
            <p:nvPr/>
          </p:nvSpPr>
          <p:spPr>
            <a:xfrm>
              <a:off x="5241600" y="342756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X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77240" y="3429000"/>
              <a:ext cx="88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[1..10,5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953600" y="2116080"/>
            <a:ext cx="925920" cy="663480"/>
            <a:chOff x="4953600" y="2116080"/>
            <a:chExt cx="925920" cy="663480"/>
          </a:xfrm>
        </p:grpSpPr>
        <p:sp>
          <p:nvSpPr>
            <p:cNvPr id="88" name=""/>
            <p:cNvSpPr/>
            <p:nvPr/>
          </p:nvSpPr>
          <p:spPr>
            <a:xfrm>
              <a:off x="5241600" y="2419200"/>
              <a:ext cx="36000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X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53600" y="21160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[1,2,5..3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1714680" y="3427560"/>
            <a:ext cx="718560" cy="595800"/>
            <a:chOff x="1714680" y="3427560"/>
            <a:chExt cx="718560" cy="595800"/>
          </a:xfrm>
        </p:grpSpPr>
        <p:sp>
          <p:nvSpPr>
            <p:cNvPr id="91" name=""/>
            <p:cNvSpPr/>
            <p:nvPr/>
          </p:nvSpPr>
          <p:spPr>
            <a:xfrm>
              <a:off x="2073240" y="3427560"/>
              <a:ext cx="36000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X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14680" y="3716280"/>
              <a:ext cx="65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[1,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05960" y="2924280"/>
            <a:ext cx="1008360" cy="360360"/>
            <a:chOff x="705960" y="2924280"/>
            <a:chExt cx="1008360" cy="360360"/>
          </a:xfrm>
        </p:grpSpPr>
        <p:sp>
          <p:nvSpPr>
            <p:cNvPr id="94" name=""/>
            <p:cNvSpPr/>
            <p:nvPr/>
          </p:nvSpPr>
          <p:spPr>
            <a:xfrm>
              <a:off x="1353960" y="292428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X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05960" y="2924280"/>
              <a:ext cx="65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[1..1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929960" y="2116080"/>
            <a:ext cx="657720" cy="663480"/>
            <a:chOff x="1929960" y="2116080"/>
            <a:chExt cx="657720" cy="663480"/>
          </a:xfrm>
        </p:grpSpPr>
        <p:sp>
          <p:nvSpPr>
            <p:cNvPr id="97" name=""/>
            <p:cNvSpPr/>
            <p:nvPr/>
          </p:nvSpPr>
          <p:spPr>
            <a:xfrm>
              <a:off x="2073240" y="241920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X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29960" y="2116080"/>
              <a:ext cx="65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[1..1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3010320" y="4149720"/>
            <a:ext cx="567720" cy="647640"/>
            <a:chOff x="3010320" y="4149720"/>
            <a:chExt cx="567720" cy="647640"/>
          </a:xfrm>
        </p:grpSpPr>
        <p:sp>
          <p:nvSpPr>
            <p:cNvPr id="100" name=""/>
            <p:cNvSpPr/>
            <p:nvPr/>
          </p:nvSpPr>
          <p:spPr>
            <a:xfrm>
              <a:off x="3154680" y="443700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X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10320" y="414972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[1..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514680" y="5156280"/>
            <a:ext cx="567720" cy="651600"/>
            <a:chOff x="3514680" y="5156280"/>
            <a:chExt cx="567720" cy="651600"/>
          </a:xfrm>
        </p:grpSpPr>
        <p:sp>
          <p:nvSpPr>
            <p:cNvPr id="103" name=""/>
            <p:cNvSpPr/>
            <p:nvPr/>
          </p:nvSpPr>
          <p:spPr>
            <a:xfrm>
              <a:off x="3659040" y="515628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X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14680" y="550080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[1..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105600" y="3427560"/>
            <a:ext cx="1060200" cy="724320"/>
            <a:chOff x="6105600" y="3427560"/>
            <a:chExt cx="1060200" cy="724320"/>
          </a:xfrm>
        </p:grpSpPr>
        <p:sp>
          <p:nvSpPr>
            <p:cNvPr id="106" name=""/>
            <p:cNvSpPr/>
            <p:nvPr/>
          </p:nvSpPr>
          <p:spPr>
            <a:xfrm>
              <a:off x="6321240" y="342756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X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105600" y="3844800"/>
              <a:ext cx="106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[1..5,10..1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162320" y="4437000"/>
            <a:ext cx="863640" cy="434160"/>
            <a:chOff x="4162320" y="4437000"/>
            <a:chExt cx="863640" cy="434160"/>
          </a:xfrm>
        </p:grpSpPr>
        <p:sp>
          <p:nvSpPr>
            <p:cNvPr id="109" name=""/>
            <p:cNvSpPr/>
            <p:nvPr/>
          </p:nvSpPr>
          <p:spPr>
            <a:xfrm>
              <a:off x="4162320" y="443700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X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57520" y="4564080"/>
              <a:ext cx="5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[1..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045840" y="2116080"/>
            <a:ext cx="925920" cy="663480"/>
            <a:chOff x="6045840" y="2116080"/>
            <a:chExt cx="925920" cy="663480"/>
          </a:xfrm>
        </p:grpSpPr>
        <p:sp>
          <p:nvSpPr>
            <p:cNvPr id="112" name=""/>
            <p:cNvSpPr/>
            <p:nvPr/>
          </p:nvSpPr>
          <p:spPr>
            <a:xfrm>
              <a:off x="6321240" y="2419200"/>
              <a:ext cx="36000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X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45840" y="21160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[1..5,9,1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0" y="11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CSP - Esemp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5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5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" dur="5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" dur="500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500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500"/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500"/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500"/>
                                        <p:tgtEl>
                                          <p:spTgt spid="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500"/>
                                        <p:tgtEl>
                                          <p:spTgt spid="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500"/>
                                        <p:tgtEl>
                                          <p:spTgt spid="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" dur="500"/>
                                        <p:tgtEl>
                                          <p:spTgt spid="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500"/>
                                        <p:tgtEl>
                                          <p:spTgt spid="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2" dur="500"/>
                                        <p:tgtEl>
                                          <p:spTgt spid="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0" y="11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Arc-consistenza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627960" y="5241960"/>
            <a:ext cx="12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Mon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227640" y="2940120"/>
            <a:ext cx="648000" cy="360360"/>
          </a:xfrm>
          <a:prstGeom prst="rect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33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75640" y="2940120"/>
            <a:ext cx="647640" cy="360360"/>
          </a:xfrm>
          <a:prstGeom prst="rect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N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523280" y="2940120"/>
            <a:ext cx="647640" cy="360360"/>
          </a:xfrm>
          <a:prstGeom prst="rect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66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227640" y="2506680"/>
            <a:ext cx="648000" cy="433440"/>
          </a:xfrm>
          <a:prstGeom prst="rect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ff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75640" y="2506680"/>
            <a:ext cx="647640" cy="433440"/>
          </a:xfrm>
          <a:prstGeom prst="rect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523280" y="2506680"/>
            <a:ext cx="647640" cy="433440"/>
          </a:xfrm>
          <a:prstGeom prst="rect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227640" y="4376880"/>
            <a:ext cx="648000" cy="360360"/>
          </a:xfrm>
          <a:prstGeom prst="rect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75640" y="4376880"/>
            <a:ext cx="647640" cy="360360"/>
          </a:xfrm>
          <a:prstGeom prst="rect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523280" y="4376880"/>
            <a:ext cx="647640" cy="360360"/>
          </a:xfrm>
          <a:prstGeom prst="rect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580000" y="2073240"/>
            <a:ext cx="3168720" cy="3097080"/>
          </a:xfrm>
          <a:prstGeom prst="ellipse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732720" y="3298680"/>
            <a:ext cx="93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33cc33"/>
                </a:solidFill>
                <a:latin typeface="Times New Roman"/>
              </a:rPr>
              <a:t>. .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826920" y="3225960"/>
            <a:ext cx="779760" cy="779400"/>
          </a:xfrm>
          <a:prstGeom prst="ellipse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ff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216240" y="1222200"/>
            <a:ext cx="779400" cy="77976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203640" y="5745240"/>
            <a:ext cx="779400" cy="77940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3635280" y="2144520"/>
            <a:ext cx="0" cy="36003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427640" y="5673600"/>
            <a:ext cx="266364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66"/>
                </a:solidFill>
                <a:latin typeface="Times New Roman"/>
              </a:rPr>
              <a:t>arc-first-waiting  A</a:t>
            </a:r>
            <a:r>
              <a:rPr b="1" lang="it-IT" sz="1600" spc="-1" strike="noStrike" baseline="-25000">
                <a:solidFill>
                  <a:srgbClr val="ff0066"/>
                </a:solidFill>
                <a:latin typeface="Times New Roman"/>
              </a:rPr>
              <a:t>1  </a:t>
            </a:r>
            <a:r>
              <a:rPr b="1" lang="it-IT" sz="1600" spc="-1" strike="noStrike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692360" y="2865600"/>
            <a:ext cx="266364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66"/>
                </a:solidFill>
                <a:latin typeface="Times New Roman"/>
              </a:rPr>
              <a:t>arc-marker  2  A</a:t>
            </a:r>
            <a:r>
              <a:rPr b="1" lang="it-IT" sz="1600" spc="-1" strike="noStrike" baseline="-25000">
                <a:solidFill>
                  <a:srgbClr val="ff0066"/>
                </a:solidFill>
                <a:latin typeface="Times New Roman"/>
              </a:rPr>
              <a:t>1  </a:t>
            </a:r>
            <a:r>
              <a:rPr b="1" lang="it-IT" sz="1600" spc="-1" strike="noStrike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3995640" y="4809960"/>
            <a:ext cx="2016360" cy="1224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227640" y="3297240"/>
            <a:ext cx="0" cy="1081080"/>
          </a:xfrm>
          <a:prstGeom prst="line">
            <a:avLst/>
          </a:prstGeom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172360" y="3297240"/>
            <a:ext cx="0" cy="1081080"/>
          </a:xfrm>
          <a:prstGeom prst="line">
            <a:avLst/>
          </a:prstGeom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227640" y="4373640"/>
            <a:ext cx="648000" cy="360360"/>
          </a:xfrm>
          <a:prstGeom prst="rect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33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875640" y="4373640"/>
            <a:ext cx="647640" cy="360360"/>
          </a:xfrm>
          <a:prstGeom prst="rect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523280" y="4373640"/>
            <a:ext cx="647640" cy="360360"/>
          </a:xfrm>
          <a:prstGeom prst="rect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66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733000" y="33321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 flipV="1">
            <a:off x="1402920" y="4005000"/>
            <a:ext cx="1800360" cy="20876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826920" y="5516640"/>
            <a:ext cx="208764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66"/>
                </a:solidFill>
                <a:latin typeface="Times New Roman"/>
              </a:rPr>
              <a:t>arc-marker  1  A</a:t>
            </a:r>
            <a:r>
              <a:rPr b="1" lang="it-IT" sz="1600" spc="-1" strike="noStrike" baseline="-25000">
                <a:solidFill>
                  <a:srgbClr val="ff0066"/>
                </a:solidFill>
                <a:latin typeface="Times New Roman"/>
              </a:rPr>
              <a:t>1  </a:t>
            </a:r>
            <a:r>
              <a:rPr b="1" lang="it-IT" sz="1600" spc="-1" strike="noStrike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0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71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7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86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0" y="11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Arc-consistenza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627960" y="5241960"/>
            <a:ext cx="12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Mon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227640" y="2940120"/>
            <a:ext cx="648000" cy="360360"/>
          </a:xfrm>
          <a:prstGeom prst="rect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33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875640" y="2940120"/>
            <a:ext cx="647640" cy="360360"/>
          </a:xfrm>
          <a:prstGeom prst="rect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N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523280" y="2940120"/>
            <a:ext cx="647640" cy="360360"/>
          </a:xfrm>
          <a:prstGeom prst="rect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66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227640" y="2506680"/>
            <a:ext cx="648000" cy="433440"/>
          </a:xfrm>
          <a:prstGeom prst="rect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ff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875640" y="2506680"/>
            <a:ext cx="647640" cy="433440"/>
          </a:xfrm>
          <a:prstGeom prst="rect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523280" y="2506680"/>
            <a:ext cx="647640" cy="433440"/>
          </a:xfrm>
          <a:prstGeom prst="rect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227640" y="4376880"/>
            <a:ext cx="648000" cy="360360"/>
          </a:xfrm>
          <a:prstGeom prst="rect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875640" y="4376880"/>
            <a:ext cx="647640" cy="360360"/>
          </a:xfrm>
          <a:prstGeom prst="rect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523280" y="4376880"/>
            <a:ext cx="647640" cy="360360"/>
          </a:xfrm>
          <a:prstGeom prst="rect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580000" y="2073240"/>
            <a:ext cx="3168720" cy="3097080"/>
          </a:xfrm>
          <a:prstGeom prst="ellipse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732720" y="3298680"/>
            <a:ext cx="93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33cc33"/>
                </a:solidFill>
                <a:latin typeface="Times New Roman"/>
              </a:rPr>
              <a:t>. .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826920" y="3225960"/>
            <a:ext cx="779760" cy="779400"/>
          </a:xfrm>
          <a:prstGeom prst="ellipse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ff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216240" y="1222200"/>
            <a:ext cx="779400" cy="77976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203640" y="5745240"/>
            <a:ext cx="779400" cy="77940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 flipV="1">
            <a:off x="3995640" y="1785600"/>
            <a:ext cx="1728720" cy="107964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484360" y="3225960"/>
            <a:ext cx="2664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cc33"/>
                </a:solidFill>
                <a:latin typeface="Times New Roman"/>
              </a:rPr>
              <a:t>arc-consist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276720" y="2289240"/>
            <a:ext cx="266364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cc33"/>
                </a:solidFill>
                <a:latin typeface="Times New Roman"/>
              </a:rPr>
              <a:t>arc-consist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3924360" y="4378320"/>
            <a:ext cx="1800000" cy="151128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419640" y="473724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cc33"/>
                </a:solidFill>
                <a:latin typeface="Times New Roman"/>
              </a:rPr>
              <a:t>arc-consist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1619280" y="3586320"/>
            <a:ext cx="3960720" cy="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227640" y="3297240"/>
            <a:ext cx="0" cy="1081080"/>
          </a:xfrm>
          <a:prstGeom prst="line">
            <a:avLst/>
          </a:prstGeom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8172360" y="3297240"/>
            <a:ext cx="0" cy="1081080"/>
          </a:xfrm>
          <a:prstGeom prst="line">
            <a:avLst/>
          </a:prstGeom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227640" y="4373640"/>
            <a:ext cx="648000" cy="360360"/>
          </a:xfrm>
          <a:prstGeom prst="rect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875640" y="4373640"/>
            <a:ext cx="647640" cy="360360"/>
          </a:xfrm>
          <a:prstGeom prst="rect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523280" y="4373640"/>
            <a:ext cx="647640" cy="360360"/>
          </a:xfrm>
          <a:prstGeom prst="rect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66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733000" y="33321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96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02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8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0" y="11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Conclusio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1403280" y="2205000"/>
            <a:ext cx="6896160" cy="4718520"/>
            <a:chOff x="1403280" y="2205000"/>
            <a:chExt cx="6896160" cy="4718520"/>
          </a:xfrm>
        </p:grpSpPr>
        <p:sp>
          <p:nvSpPr>
            <p:cNvPr id="811" name=""/>
            <p:cNvSpPr/>
            <p:nvPr/>
          </p:nvSpPr>
          <p:spPr>
            <a:xfrm flipV="1">
              <a:off x="5200560" y="4179960"/>
              <a:ext cx="1959120" cy="79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151680" y="4468680"/>
              <a:ext cx="28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951280" y="4179960"/>
              <a:ext cx="919080" cy="85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024000" y="43974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093840" y="2982960"/>
              <a:ext cx="283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474800" y="27273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305600" y="603252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0066"/>
                  </a:solidFill>
                  <a:latin typeface="Times New Roman"/>
                </a:rPr>
                <a:t>[1..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403280" y="3348000"/>
              <a:ext cx="65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9933"/>
                  </a:solidFill>
                  <a:latin typeface="Times New Roman"/>
                </a:rPr>
                <a:t>[3..1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565360" y="2500200"/>
              <a:ext cx="65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9933"/>
                  </a:solidFill>
                  <a:latin typeface="Times New Roman"/>
                </a:rPr>
                <a:t>[3..1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627280" y="4164120"/>
              <a:ext cx="66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9933"/>
                  </a:solidFill>
                  <a:latin typeface="Times New Roman"/>
                </a:rPr>
                <a:t>[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814920" y="455940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0066"/>
                  </a:solidFill>
                  <a:latin typeface="Times New Roman"/>
                </a:rPr>
                <a:t>[2..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824720" y="455940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0066"/>
                  </a:solidFill>
                  <a:latin typeface="Times New Roman"/>
                </a:rPr>
                <a:t>[2..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881680" y="2494080"/>
              <a:ext cx="65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ff"/>
                  </a:solidFill>
                  <a:latin typeface="Times New Roman"/>
                </a:rPr>
                <a:t>[2,5,9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953040" y="2494080"/>
              <a:ext cx="65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ff"/>
                  </a:solidFill>
                  <a:latin typeface="Times New Roman"/>
                </a:rPr>
                <a:t>[2,5,9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066080" y="4168800"/>
              <a:ext cx="573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ff"/>
                  </a:solidFill>
                  <a:latin typeface="Times New Roman"/>
                </a:rPr>
                <a:t>[1..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685480" y="4164120"/>
              <a:ext cx="88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ff"/>
                  </a:solidFill>
                  <a:latin typeface="Times New Roman"/>
                </a:rPr>
                <a:t>[2..10,5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2187720" y="3001680"/>
              <a:ext cx="507960" cy="290520"/>
            </a:xfrm>
            <a:prstGeom prst="line">
              <a:avLst/>
            </a:prstGeom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265120" y="29289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9933"/>
                  </a:solidFill>
                  <a:latin typeface="Times New Roman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187720" y="3656160"/>
              <a:ext cx="507960" cy="288720"/>
            </a:xfrm>
            <a:prstGeom prst="line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188800" y="36561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9933"/>
                  </a:solidFill>
                  <a:latin typeface="Times New Roman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878200" y="3146400"/>
              <a:ext cx="0" cy="654120"/>
            </a:xfrm>
            <a:prstGeom prst="line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846160" y="32925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9933"/>
                  </a:solidFill>
                  <a:latin typeface="Times New Roman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695680" y="3800520"/>
              <a:ext cx="363240" cy="361800"/>
            </a:xfrm>
            <a:prstGeom prst="ellipse">
              <a:avLst/>
            </a:prstGeom>
            <a:noFill/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9933"/>
                  </a:solidFill>
                  <a:latin typeface="Times New Roman"/>
                </a:rPr>
                <a:t>X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969920" y="3292560"/>
              <a:ext cx="363600" cy="363600"/>
            </a:xfrm>
            <a:prstGeom prst="ellipse">
              <a:avLst/>
            </a:prstGeom>
            <a:noFill/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9933"/>
                  </a:solidFill>
                  <a:latin typeface="Times New Roman"/>
                </a:rPr>
                <a:t>X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695680" y="2782800"/>
              <a:ext cx="363240" cy="363600"/>
            </a:xfrm>
            <a:prstGeom prst="ellipse">
              <a:avLst/>
            </a:prstGeom>
            <a:noFill/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9933"/>
                  </a:solidFill>
                  <a:latin typeface="Times New Roman"/>
                </a:rPr>
                <a:t>X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476360" y="2347920"/>
              <a:ext cx="2251080" cy="2251080"/>
            </a:xfrm>
            <a:prstGeom prst="ellipse">
              <a:avLst/>
            </a:prstGeom>
            <a:noFill/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274840" y="468324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it-IT" sz="2400" spc="-1" strike="noStrike" baseline="-25000">
                  <a:solidFill>
                    <a:srgbClr val="ff99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210200" y="5070600"/>
              <a:ext cx="6523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362120" y="481500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66"/>
                  </a:solidFill>
                  <a:latin typeface="Times New Roman"/>
                </a:rPr>
                <a:t>≤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4716360" y="5251320"/>
              <a:ext cx="365040" cy="5083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863600" y="537840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66"/>
                  </a:solidFill>
                  <a:latin typeface="Times New Roman"/>
                </a:rPr>
                <a:t>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992400" y="5251320"/>
              <a:ext cx="362160" cy="5083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919320" y="532440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66"/>
                  </a:solidFill>
                  <a:latin typeface="Times New Roman"/>
                </a:rPr>
                <a:t>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844800" y="4889520"/>
              <a:ext cx="365400" cy="361800"/>
            </a:xfrm>
            <a:prstGeom prst="ellipse">
              <a:avLst/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0066"/>
                  </a:solidFill>
                  <a:latin typeface="Times New Roman"/>
                </a:rPr>
                <a:t>X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356000" y="5614920"/>
              <a:ext cx="362160" cy="362160"/>
            </a:xfrm>
            <a:prstGeom prst="ellipse">
              <a:avLst/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0066"/>
                  </a:solidFill>
                  <a:latin typeface="Times New Roman"/>
                </a:rPr>
                <a:t>X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862520" y="4889520"/>
              <a:ext cx="363600" cy="361800"/>
            </a:xfrm>
            <a:prstGeom prst="ellipse">
              <a:avLst/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0066"/>
                  </a:solidFill>
                  <a:latin typeface="Times New Roman"/>
                </a:rPr>
                <a:t>X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435480" y="4308480"/>
              <a:ext cx="2251080" cy="2104920"/>
            </a:xfrm>
            <a:prstGeom prst="ellipse">
              <a:avLst/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381560" y="6413400"/>
              <a:ext cx="64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r>
                <a:rPr b="0" lang="it-IT" sz="24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230960" y="3146400"/>
              <a:ext cx="0" cy="654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203960" y="32940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ff"/>
                  </a:solidFill>
                  <a:latin typeface="Times New Roman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327720" y="3983040"/>
              <a:ext cx="7272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546600" y="372744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ff"/>
                  </a:solidFill>
                  <a:latin typeface="Times New Roman"/>
                </a:rPr>
                <a:t>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327720" y="2967120"/>
              <a:ext cx="7272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549840" y="27115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ff"/>
                  </a:solidFill>
                  <a:latin typeface="Times New Roman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141960" y="3146400"/>
              <a:ext cx="0" cy="654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895720" y="32940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ff"/>
                  </a:solidFill>
                  <a:latin typeface="Times New Roman"/>
                </a:rPr>
                <a:t>&l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964120" y="3800520"/>
              <a:ext cx="363600" cy="361800"/>
            </a:xfrm>
            <a:prstGeom prst="ellipse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ff"/>
                  </a:solidFill>
                  <a:latin typeface="Times New Roman"/>
                </a:rPr>
                <a:t>X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964120" y="2782800"/>
              <a:ext cx="363600" cy="363600"/>
            </a:xfrm>
            <a:prstGeom prst="ellipse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ff"/>
                  </a:solidFill>
                  <a:latin typeface="Times New Roman"/>
                </a:rPr>
                <a:t>X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053120" y="3800520"/>
              <a:ext cx="362160" cy="361800"/>
            </a:xfrm>
            <a:prstGeom prst="ellipse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ff"/>
                  </a:solidFill>
                  <a:latin typeface="Times New Roman"/>
                </a:rPr>
                <a:t>X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053120" y="2782800"/>
              <a:ext cx="362160" cy="363600"/>
            </a:xfrm>
            <a:prstGeom prst="ellipse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ff"/>
                  </a:solidFill>
                  <a:latin typeface="Times New Roman"/>
                </a:rPr>
                <a:t>X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249880" y="2205000"/>
              <a:ext cx="3049560" cy="2611440"/>
            </a:xfrm>
            <a:prstGeom prst="ellipse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759720" y="4902120"/>
              <a:ext cx="64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r>
                <a:rPr b="0" lang="it-IT" sz="24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755640" y="177228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dere un constraintgraph arc-consistente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0" y="11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Conclusio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1461960" y="2205000"/>
            <a:ext cx="6837480" cy="4718520"/>
            <a:chOff x="1461960" y="2205000"/>
            <a:chExt cx="6837480" cy="4718520"/>
          </a:xfrm>
        </p:grpSpPr>
        <p:sp>
          <p:nvSpPr>
            <p:cNvPr id="866" name=""/>
            <p:cNvSpPr/>
            <p:nvPr/>
          </p:nvSpPr>
          <p:spPr>
            <a:xfrm flipV="1">
              <a:off x="5200560" y="4179600"/>
              <a:ext cx="1959120" cy="79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151680" y="4468680"/>
              <a:ext cx="28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951280" y="4179960"/>
              <a:ext cx="919080" cy="85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024000" y="43974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094200" y="2982960"/>
              <a:ext cx="28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474800" y="27273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2187720" y="3001680"/>
              <a:ext cx="507960" cy="290520"/>
            </a:xfrm>
            <a:prstGeom prst="line">
              <a:avLst/>
            </a:prstGeom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265120" y="29289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9933"/>
                  </a:solidFill>
                  <a:latin typeface="Times New Roman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187720" y="3656160"/>
              <a:ext cx="507960" cy="288720"/>
            </a:xfrm>
            <a:prstGeom prst="line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188800" y="36561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9933"/>
                  </a:solidFill>
                  <a:latin typeface="Times New Roman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878200" y="3146400"/>
              <a:ext cx="0" cy="654120"/>
            </a:xfrm>
            <a:prstGeom prst="line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846160" y="32925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9933"/>
                  </a:solidFill>
                  <a:latin typeface="Times New Roman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695680" y="3800520"/>
              <a:ext cx="363600" cy="361800"/>
            </a:xfrm>
            <a:prstGeom prst="ellipse">
              <a:avLst/>
            </a:prstGeom>
            <a:noFill/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9933"/>
                  </a:solidFill>
                  <a:latin typeface="Times New Roman"/>
                </a:rPr>
                <a:t>X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969920" y="3292560"/>
              <a:ext cx="363600" cy="363600"/>
            </a:xfrm>
            <a:prstGeom prst="ellipse">
              <a:avLst/>
            </a:prstGeom>
            <a:noFill/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9933"/>
                  </a:solidFill>
                  <a:latin typeface="Times New Roman"/>
                </a:rPr>
                <a:t>X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695680" y="2782800"/>
              <a:ext cx="363600" cy="363600"/>
            </a:xfrm>
            <a:prstGeom prst="ellipse">
              <a:avLst/>
            </a:prstGeom>
            <a:noFill/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9933"/>
                  </a:solidFill>
                  <a:latin typeface="Times New Roman"/>
                </a:rPr>
                <a:t>X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476360" y="2347920"/>
              <a:ext cx="2251080" cy="2251080"/>
            </a:xfrm>
            <a:prstGeom prst="ellipse">
              <a:avLst/>
            </a:prstGeom>
            <a:noFill/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274840" y="468324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it-IT" sz="2400" spc="-1" strike="noStrike" baseline="-25000">
                  <a:solidFill>
                    <a:srgbClr val="ff99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210200" y="5070600"/>
              <a:ext cx="6523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362120" y="481500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66"/>
                  </a:solidFill>
                  <a:latin typeface="Times New Roman"/>
                </a:rPr>
                <a:t>≤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4716000" y="5251320"/>
              <a:ext cx="365400" cy="507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863960" y="537840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66"/>
                  </a:solidFill>
                  <a:latin typeface="Times New Roman"/>
                </a:rPr>
                <a:t>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992400" y="5251320"/>
              <a:ext cx="362160" cy="507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919320" y="532440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66"/>
                  </a:solidFill>
                  <a:latin typeface="Times New Roman"/>
                </a:rPr>
                <a:t>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844800" y="4889520"/>
              <a:ext cx="365400" cy="361800"/>
            </a:xfrm>
            <a:prstGeom prst="ellipse">
              <a:avLst/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0066"/>
                  </a:solidFill>
                  <a:latin typeface="Times New Roman"/>
                </a:rPr>
                <a:t>X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356000" y="5614920"/>
              <a:ext cx="362160" cy="362160"/>
            </a:xfrm>
            <a:prstGeom prst="ellipse">
              <a:avLst/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0066"/>
                  </a:solidFill>
                  <a:latin typeface="Times New Roman"/>
                </a:rPr>
                <a:t>X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862520" y="4889520"/>
              <a:ext cx="363600" cy="361800"/>
            </a:xfrm>
            <a:prstGeom prst="ellipse">
              <a:avLst/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0066"/>
                  </a:solidFill>
                  <a:latin typeface="Times New Roman"/>
                </a:rPr>
                <a:t>X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435480" y="4308480"/>
              <a:ext cx="2251080" cy="2104920"/>
            </a:xfrm>
            <a:prstGeom prst="ellipse">
              <a:avLst/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381560" y="6413400"/>
              <a:ext cx="64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r>
                <a:rPr b="0" lang="it-IT" sz="24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230960" y="3146400"/>
              <a:ext cx="0" cy="654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203960" y="32940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ff"/>
                  </a:solidFill>
                  <a:latin typeface="Times New Roman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327720" y="3983040"/>
              <a:ext cx="7272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546600" y="372744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ff"/>
                  </a:solidFill>
                  <a:latin typeface="Times New Roman"/>
                </a:rPr>
                <a:t>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327720" y="2967120"/>
              <a:ext cx="7272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549840" y="27115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ff"/>
                  </a:solidFill>
                  <a:latin typeface="Times New Roman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141960" y="3146400"/>
              <a:ext cx="0" cy="654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895720" y="32940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ff"/>
                  </a:solidFill>
                  <a:latin typeface="Times New Roman"/>
                </a:rPr>
                <a:t>&l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964120" y="3800520"/>
              <a:ext cx="363600" cy="361800"/>
            </a:xfrm>
            <a:prstGeom prst="ellipse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ff"/>
                  </a:solidFill>
                  <a:latin typeface="Times New Roman"/>
                </a:rPr>
                <a:t>X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964120" y="2782800"/>
              <a:ext cx="363600" cy="363600"/>
            </a:xfrm>
            <a:prstGeom prst="ellipse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ff"/>
                  </a:solidFill>
                  <a:latin typeface="Times New Roman"/>
                </a:rPr>
                <a:t>X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053120" y="3800520"/>
              <a:ext cx="362160" cy="361800"/>
            </a:xfrm>
            <a:prstGeom prst="ellipse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ff"/>
                  </a:solidFill>
                  <a:latin typeface="Times New Roman"/>
                </a:rPr>
                <a:t>X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053120" y="2782800"/>
              <a:ext cx="362160" cy="363600"/>
            </a:xfrm>
            <a:prstGeom prst="ellipse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ff"/>
                  </a:solidFill>
                  <a:latin typeface="Times New Roman"/>
                </a:rPr>
                <a:t>X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249880" y="2205000"/>
              <a:ext cx="3049560" cy="2611440"/>
            </a:xfrm>
            <a:prstGeom prst="ellipse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759720" y="4902120"/>
              <a:ext cx="64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r>
                <a:rPr b="0" lang="it-IT" sz="24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61960" y="32306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9933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705040" y="4110120"/>
              <a:ext cx="3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99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858480" y="4464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036480" y="2355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624040" y="23558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9933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940360" y="41083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189920" y="2355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189920" y="410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930920" y="4464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402440" y="5924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8" name=""/>
          <p:cNvSpPr/>
          <p:nvPr/>
        </p:nvSpPr>
        <p:spPr>
          <a:xfrm>
            <a:off x="755640" y="177228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 vuol dire risolvere il problema corrisponden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4522680" y="3787920"/>
            <a:ext cx="1942920" cy="792000"/>
            <a:chOff x="4522680" y="3787920"/>
            <a:chExt cx="1942920" cy="792000"/>
          </a:xfrm>
        </p:grpSpPr>
        <p:sp>
          <p:nvSpPr>
            <p:cNvPr id="116" name=""/>
            <p:cNvSpPr/>
            <p:nvPr/>
          </p:nvSpPr>
          <p:spPr>
            <a:xfrm flipV="1">
              <a:off x="4522680" y="3787920"/>
              <a:ext cx="194292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65520" y="4076640"/>
              <a:ext cx="28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3514680" y="4363920"/>
            <a:ext cx="647640" cy="307080"/>
            <a:chOff x="3514680" y="4363920"/>
            <a:chExt cx="647640" cy="307080"/>
          </a:xfrm>
        </p:grpSpPr>
        <p:sp>
          <p:nvSpPr>
            <p:cNvPr id="119" name=""/>
            <p:cNvSpPr/>
            <p:nvPr/>
          </p:nvSpPr>
          <p:spPr>
            <a:xfrm>
              <a:off x="3514680" y="461664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666240" y="436392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≤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017600" y="4795920"/>
            <a:ext cx="424440" cy="504720"/>
            <a:chOff x="4017600" y="4795920"/>
            <a:chExt cx="424440" cy="504720"/>
          </a:xfrm>
        </p:grpSpPr>
        <p:sp>
          <p:nvSpPr>
            <p:cNvPr id="122" name=""/>
            <p:cNvSpPr/>
            <p:nvPr/>
          </p:nvSpPr>
          <p:spPr>
            <a:xfrm flipH="1">
              <a:off x="4017600" y="4795920"/>
              <a:ext cx="36036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63760" y="492300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290680" y="3787920"/>
            <a:ext cx="863640" cy="792000"/>
            <a:chOff x="2290680" y="3787920"/>
            <a:chExt cx="863640" cy="792000"/>
          </a:xfrm>
        </p:grpSpPr>
        <p:sp>
          <p:nvSpPr>
            <p:cNvPr id="125" name=""/>
            <p:cNvSpPr/>
            <p:nvPr/>
          </p:nvSpPr>
          <p:spPr>
            <a:xfrm>
              <a:off x="2290680" y="3787920"/>
              <a:ext cx="8636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63400" y="40053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227040" y="4795920"/>
            <a:ext cx="430560" cy="504720"/>
            <a:chOff x="3227040" y="4795920"/>
            <a:chExt cx="430560" cy="504720"/>
          </a:xfrm>
        </p:grpSpPr>
        <p:sp>
          <p:nvSpPr>
            <p:cNvPr id="128" name=""/>
            <p:cNvSpPr/>
            <p:nvPr/>
          </p:nvSpPr>
          <p:spPr>
            <a:xfrm>
              <a:off x="3299040" y="4795920"/>
              <a:ext cx="35856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27040" y="486900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569960" y="2563920"/>
            <a:ext cx="503280" cy="360360"/>
            <a:chOff x="1569960" y="2563920"/>
            <a:chExt cx="503280" cy="360360"/>
          </a:xfrm>
        </p:grpSpPr>
        <p:sp>
          <p:nvSpPr>
            <p:cNvPr id="131" name=""/>
            <p:cNvSpPr/>
            <p:nvPr/>
          </p:nvSpPr>
          <p:spPr>
            <a:xfrm flipV="1">
              <a:off x="1569960" y="2637000"/>
              <a:ext cx="5032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45920" y="25639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569960" y="3284640"/>
            <a:ext cx="503280" cy="307080"/>
            <a:chOff x="1569960" y="3284640"/>
            <a:chExt cx="503280" cy="307080"/>
          </a:xfrm>
        </p:grpSpPr>
        <p:sp>
          <p:nvSpPr>
            <p:cNvPr id="134" name=""/>
            <p:cNvSpPr/>
            <p:nvPr/>
          </p:nvSpPr>
          <p:spPr>
            <a:xfrm>
              <a:off x="1569960" y="3284640"/>
              <a:ext cx="503280" cy="28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71400" y="3284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222280" y="2779560"/>
            <a:ext cx="282960" cy="647640"/>
            <a:chOff x="2222280" y="2779560"/>
            <a:chExt cx="282960" cy="647640"/>
          </a:xfrm>
        </p:grpSpPr>
        <p:sp>
          <p:nvSpPr>
            <p:cNvPr id="137" name=""/>
            <p:cNvSpPr/>
            <p:nvPr/>
          </p:nvSpPr>
          <p:spPr>
            <a:xfrm>
              <a:off x="2252880" y="27795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22280" y="29239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470280" y="2779560"/>
            <a:ext cx="282960" cy="647640"/>
            <a:chOff x="6470280" y="2779560"/>
            <a:chExt cx="282960" cy="647640"/>
          </a:xfrm>
        </p:grpSpPr>
        <p:sp>
          <p:nvSpPr>
            <p:cNvPr id="140" name=""/>
            <p:cNvSpPr/>
            <p:nvPr/>
          </p:nvSpPr>
          <p:spPr>
            <a:xfrm>
              <a:off x="6499080" y="27795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70280" y="29239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433600" y="2347920"/>
            <a:ext cx="2808360" cy="307080"/>
            <a:chOff x="2433600" y="2347920"/>
            <a:chExt cx="2808360" cy="307080"/>
          </a:xfrm>
        </p:grpSpPr>
        <p:sp>
          <p:nvSpPr>
            <p:cNvPr id="143" name=""/>
            <p:cNvSpPr/>
            <p:nvPr/>
          </p:nvSpPr>
          <p:spPr>
            <a:xfrm>
              <a:off x="2433600" y="2600280"/>
              <a:ext cx="28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03400" y="23479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602320" y="3355920"/>
            <a:ext cx="720720" cy="307080"/>
            <a:chOff x="5602320" y="3355920"/>
            <a:chExt cx="720720" cy="307080"/>
          </a:xfrm>
        </p:grpSpPr>
        <p:sp>
          <p:nvSpPr>
            <p:cNvPr id="146" name=""/>
            <p:cNvSpPr/>
            <p:nvPr/>
          </p:nvSpPr>
          <p:spPr>
            <a:xfrm>
              <a:off x="5602320" y="360828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19400" y="335592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602320" y="2347920"/>
            <a:ext cx="720720" cy="307080"/>
            <a:chOff x="5602320" y="2347920"/>
            <a:chExt cx="720720" cy="307080"/>
          </a:xfrm>
        </p:grpSpPr>
        <p:sp>
          <p:nvSpPr>
            <p:cNvPr id="149" name=""/>
            <p:cNvSpPr/>
            <p:nvPr/>
          </p:nvSpPr>
          <p:spPr>
            <a:xfrm>
              <a:off x="5602320" y="260028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22640" y="23479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5173560" y="2779560"/>
            <a:ext cx="282960" cy="647640"/>
            <a:chOff x="5173560" y="2779560"/>
            <a:chExt cx="282960" cy="647640"/>
          </a:xfrm>
        </p:grpSpPr>
        <p:sp>
          <p:nvSpPr>
            <p:cNvPr id="152" name=""/>
            <p:cNvSpPr/>
            <p:nvPr/>
          </p:nvSpPr>
          <p:spPr>
            <a:xfrm>
              <a:off x="5419800" y="27795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73560" y="29239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7613640" y="1114560"/>
            <a:ext cx="142236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x1::[1..1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x2::[1..1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x3::[1,5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x4::[1,2,5..33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x5::[1..10,5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x6::[1..5,9,1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x7::[1..5,10..15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x8::[1..5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x9::[1..5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x10::[1..5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x1=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x1&gt;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x2&gt;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x2&gt;x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x3&lt;x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x4&lt;x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x4=x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x5&gt;=x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x6&gt;x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x7!=x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x8&lt;=x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x8&gt;=x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x9&gt;=x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377240" y="3427560"/>
            <a:ext cx="1224720" cy="360360"/>
            <a:chOff x="4377240" y="3427560"/>
            <a:chExt cx="1224720" cy="360360"/>
          </a:xfrm>
        </p:grpSpPr>
        <p:sp>
          <p:nvSpPr>
            <p:cNvPr id="156" name=""/>
            <p:cNvSpPr/>
            <p:nvPr/>
          </p:nvSpPr>
          <p:spPr>
            <a:xfrm>
              <a:off x="5241600" y="342756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X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77240" y="3429000"/>
              <a:ext cx="88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[1..10,5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4953600" y="2116080"/>
            <a:ext cx="925920" cy="663480"/>
            <a:chOff x="4953600" y="2116080"/>
            <a:chExt cx="925920" cy="663480"/>
          </a:xfrm>
        </p:grpSpPr>
        <p:sp>
          <p:nvSpPr>
            <p:cNvPr id="159" name=""/>
            <p:cNvSpPr/>
            <p:nvPr/>
          </p:nvSpPr>
          <p:spPr>
            <a:xfrm>
              <a:off x="5241600" y="2419200"/>
              <a:ext cx="36000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X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53600" y="21160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[1,2,5..3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714680" y="3427560"/>
            <a:ext cx="718560" cy="595800"/>
            <a:chOff x="1714680" y="3427560"/>
            <a:chExt cx="718560" cy="595800"/>
          </a:xfrm>
        </p:grpSpPr>
        <p:sp>
          <p:nvSpPr>
            <p:cNvPr id="162" name=""/>
            <p:cNvSpPr/>
            <p:nvPr/>
          </p:nvSpPr>
          <p:spPr>
            <a:xfrm>
              <a:off x="2073240" y="3427560"/>
              <a:ext cx="36000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X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14680" y="3716280"/>
              <a:ext cx="65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[1,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705960" y="2924280"/>
            <a:ext cx="1008360" cy="360360"/>
            <a:chOff x="705960" y="2924280"/>
            <a:chExt cx="1008360" cy="360360"/>
          </a:xfrm>
        </p:grpSpPr>
        <p:sp>
          <p:nvSpPr>
            <p:cNvPr id="165" name=""/>
            <p:cNvSpPr/>
            <p:nvPr/>
          </p:nvSpPr>
          <p:spPr>
            <a:xfrm>
              <a:off x="1353960" y="292428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X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05960" y="2924280"/>
              <a:ext cx="65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[1..1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929960" y="2116080"/>
            <a:ext cx="657720" cy="663480"/>
            <a:chOff x="1929960" y="2116080"/>
            <a:chExt cx="657720" cy="663480"/>
          </a:xfrm>
        </p:grpSpPr>
        <p:sp>
          <p:nvSpPr>
            <p:cNvPr id="168" name=""/>
            <p:cNvSpPr/>
            <p:nvPr/>
          </p:nvSpPr>
          <p:spPr>
            <a:xfrm>
              <a:off x="2073240" y="241920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X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29960" y="2116080"/>
              <a:ext cx="65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[1..1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010320" y="4149720"/>
            <a:ext cx="567720" cy="647640"/>
            <a:chOff x="3010320" y="4149720"/>
            <a:chExt cx="567720" cy="647640"/>
          </a:xfrm>
        </p:grpSpPr>
        <p:sp>
          <p:nvSpPr>
            <p:cNvPr id="171" name=""/>
            <p:cNvSpPr/>
            <p:nvPr/>
          </p:nvSpPr>
          <p:spPr>
            <a:xfrm>
              <a:off x="3154680" y="443700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X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10320" y="414972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[1..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514680" y="5156280"/>
            <a:ext cx="567720" cy="651600"/>
            <a:chOff x="3514680" y="5156280"/>
            <a:chExt cx="567720" cy="651600"/>
          </a:xfrm>
        </p:grpSpPr>
        <p:sp>
          <p:nvSpPr>
            <p:cNvPr id="174" name=""/>
            <p:cNvSpPr/>
            <p:nvPr/>
          </p:nvSpPr>
          <p:spPr>
            <a:xfrm>
              <a:off x="3659040" y="515628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X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14680" y="550080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[1..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105600" y="3427560"/>
            <a:ext cx="1060200" cy="724320"/>
            <a:chOff x="6105600" y="3427560"/>
            <a:chExt cx="1060200" cy="724320"/>
          </a:xfrm>
        </p:grpSpPr>
        <p:sp>
          <p:nvSpPr>
            <p:cNvPr id="177" name=""/>
            <p:cNvSpPr/>
            <p:nvPr/>
          </p:nvSpPr>
          <p:spPr>
            <a:xfrm>
              <a:off x="6321240" y="342756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X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05600" y="3844800"/>
              <a:ext cx="106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[1..5,10..1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162320" y="4437000"/>
            <a:ext cx="863640" cy="434160"/>
            <a:chOff x="4162320" y="4437000"/>
            <a:chExt cx="863640" cy="434160"/>
          </a:xfrm>
        </p:grpSpPr>
        <p:sp>
          <p:nvSpPr>
            <p:cNvPr id="180" name=""/>
            <p:cNvSpPr/>
            <p:nvPr/>
          </p:nvSpPr>
          <p:spPr>
            <a:xfrm>
              <a:off x="4162320" y="443700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X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457520" y="4564080"/>
              <a:ext cx="5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[1..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045840" y="2116080"/>
            <a:ext cx="925920" cy="663480"/>
            <a:chOff x="6045840" y="2116080"/>
            <a:chExt cx="925920" cy="663480"/>
          </a:xfrm>
        </p:grpSpPr>
        <p:sp>
          <p:nvSpPr>
            <p:cNvPr id="183" name=""/>
            <p:cNvSpPr/>
            <p:nvPr/>
          </p:nvSpPr>
          <p:spPr>
            <a:xfrm>
              <a:off x="6321240" y="2419200"/>
              <a:ext cx="36000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X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45840" y="21160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[1..5,9,1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0" y="11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CSP - Esemp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8000" y="1052640"/>
            <a:ext cx="6985080" cy="5759280"/>
          </a:xfrm>
          <a:prstGeom prst="wedgeRoundRectCallout">
            <a:avLst>
              <a:gd name="adj1" fmla="val 58023"/>
              <a:gd name="adj2" fmla="val -39717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alfabeto:={</a:t>
            </a:r>
            <a:r>
              <a:rPr b="1" lang="it-IT" sz="1600" spc="-1" strike="noStrike">
                <a:solidFill>
                  <a:srgbClr val="3366ff"/>
                </a:solidFill>
                <a:latin typeface="Times New Roman"/>
              </a:rPr>
              <a:t>natural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1600" spc="-1" strike="noStrike">
                <a:solidFill>
                  <a:srgbClr val="3366ff"/>
                </a:solidFill>
                <a:latin typeface="Times New Roman"/>
              </a:rPr>
              <a:t>string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1600" spc="-1" strike="noStrike">
                <a:solidFill>
                  <a:srgbClr val="3366ff"/>
                </a:solidFill>
                <a:latin typeface="Times New Roman"/>
              </a:rPr>
              <a:t>=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1600" spc="-1" strike="noStrike">
                <a:solidFill>
                  <a:srgbClr val="3366ff"/>
                </a:solidFill>
                <a:latin typeface="Times New Roman"/>
              </a:rPr>
              <a:t>!=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it-IT" sz="1600" spc="-1" strike="noStrike">
                <a:solidFill>
                  <a:srgbClr val="3366ff"/>
                </a:solidFill>
                <a:latin typeface="Times New Roman"/>
              </a:rPr>
              <a:t>&gt;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1600" spc="-1" strike="noStrike">
                <a:solidFill>
                  <a:srgbClr val="3366ff"/>
                </a:solidFill>
                <a:latin typeface="Times New Roman"/>
              </a:rPr>
              <a:t>&lt;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it-IT" sz="1600" spc="-1" strike="noStrike">
                <a:solidFill>
                  <a:srgbClr val="3366ff"/>
                </a:solidFill>
                <a:latin typeface="Times New Roman"/>
              </a:rPr>
              <a:t> &gt;=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1600" spc="-1" strike="noStrike">
                <a:solidFill>
                  <a:srgbClr val="3366ff"/>
                </a:solidFill>
                <a:latin typeface="Times New Roman"/>
              </a:rPr>
              <a:t>&lt;=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1600" spc="-1" strike="noStrike">
                <a:solidFill>
                  <a:srgbClr val="3366ff"/>
                </a:solidFill>
                <a:latin typeface="Times New Roman"/>
              </a:rPr>
              <a:t>::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1600" spc="-1" strike="noStrike">
                <a:solidFill>
                  <a:srgbClr val="3366ff"/>
                </a:solidFill>
                <a:latin typeface="Times New Roman"/>
              </a:rPr>
              <a:t>[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1600" spc="-1" strike="noStrike">
                <a:solidFill>
                  <a:srgbClr val="3366ff"/>
                </a:solidFill>
                <a:latin typeface="Times New Roman"/>
              </a:rPr>
              <a:t>]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1600" spc="-1" strike="noStrike">
                <a:solidFill>
                  <a:srgbClr val="3366ff"/>
                </a:solidFill>
                <a:latin typeface="Times New Roman"/>
              </a:rPr>
              <a:t>,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1600" spc="-1" strike="noStrike">
                <a:solidFill>
                  <a:srgbClr val="3366ff"/>
                </a:solidFill>
                <a:latin typeface="Times New Roman"/>
              </a:rPr>
              <a:t>..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it-IT" sz="1600" spc="-1" strike="noStrike">
                <a:solidFill>
                  <a:srgbClr val="3366ff"/>
                </a:solidFill>
                <a:latin typeface="Times New Roman"/>
              </a:rPr>
              <a:t>Variables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it-IT" sz="1600" spc="-1" strike="noStrike">
                <a:solidFill>
                  <a:srgbClr val="3366ff"/>
                </a:solidFill>
                <a:latin typeface="Times New Roman"/>
              </a:rPr>
              <a:t> Constraint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it-IT" sz="1600" spc="-1" strike="noStrike">
                <a:solidFill>
                  <a:srgbClr val="3366ff"/>
                </a:solidFill>
                <a:latin typeface="Times New Roman"/>
              </a:rPr>
              <a:t> External Constraint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66ff"/>
                </a:solidFill>
                <a:latin typeface="Times New Roman"/>
              </a:rPr>
              <a:t>natura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rappresenta un numero natur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66ff"/>
                </a:solidFill>
                <a:latin typeface="Times New Roman"/>
              </a:rPr>
              <a:t>string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è una stringa alfanumerica che inizia con un caratte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66ff"/>
                </a:solidFill>
                <a:latin typeface="Times New Roman"/>
              </a:rPr>
              <a:t>natura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it-IT" sz="1600" spc="-1" strike="noStrike">
                <a:solidFill>
                  <a:srgbClr val="3366ff"/>
                </a:solidFill>
                <a:latin typeface="Times New Roman"/>
              </a:rPr>
              <a:t> string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possono essere definiti mediante un’altra semplice grammat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66ff"/>
                </a:solidFill>
                <a:latin typeface="Times New Roman"/>
              </a:rPr>
              <a:t>Variables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it-IT" sz="1600" spc="-1" strike="noStrike">
                <a:solidFill>
                  <a:srgbClr val="3366ff"/>
                </a:solidFill>
                <a:latin typeface="Times New Roman"/>
              </a:rPr>
              <a:t> Constraints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it-IT" sz="1600" spc="-1" strike="noStrike">
                <a:solidFill>
                  <a:srgbClr val="3366ff"/>
                </a:solidFill>
                <a:latin typeface="Times New Roman"/>
              </a:rPr>
              <a:t> External Constraints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sono parole chia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&lt;constraintProblem&gt;::=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3366ff"/>
                </a:solidFill>
                <a:latin typeface="Times New Roman"/>
              </a:rPr>
              <a:t>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&lt;variableLis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3366ff"/>
                </a:solidFill>
                <a:latin typeface="Times New Roman"/>
              </a:rPr>
              <a:t>Constra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&lt;constraintLis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&lt;variableList&gt;::= &lt;variable&gt; | &lt;variable&gt; &lt; variableList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&lt;variable&gt;::= &lt;varName&gt; </a:t>
            </a:r>
            <a:r>
              <a:rPr b="1" lang="it-IT" sz="1600" spc="-1" strike="noStrike">
                <a:solidFill>
                  <a:srgbClr val="3366ff"/>
                </a:solidFill>
                <a:latin typeface="Times New Roman"/>
              </a:rPr>
              <a:t>::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&lt;domai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&lt;varName&gt;::=</a:t>
            </a:r>
            <a:r>
              <a:rPr b="1" lang="it-IT" sz="1600" spc="-1" strike="noStrike">
                <a:solidFill>
                  <a:srgbClr val="3366ff"/>
                </a:solidFill>
                <a:latin typeface="Times New Roman"/>
              </a:rPr>
              <a:t>string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&lt;domain&gt;::= </a:t>
            </a:r>
            <a:r>
              <a:rPr b="1" lang="it-IT" sz="1600" spc="-1" strike="noStrike">
                <a:solidFill>
                  <a:srgbClr val="3366ff"/>
                </a:solidFill>
                <a:latin typeface="Times New Roman"/>
              </a:rPr>
              <a:t>[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&lt;domContent&gt;</a:t>
            </a:r>
            <a:r>
              <a:rPr b="1" lang="it-IT" sz="1600" spc="-1" strike="noStrike">
                <a:solidFill>
                  <a:srgbClr val="3366ff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&lt;domContent&gt;::= &lt;domElem&gt;| &lt;domElem&gt;</a:t>
            </a:r>
            <a:r>
              <a:rPr b="1" lang="it-IT" sz="1600" spc="-1" strike="noStrike">
                <a:solidFill>
                  <a:srgbClr val="3366ff"/>
                </a:solidFill>
                <a:latin typeface="Times New Roman"/>
              </a:rPr>
              <a:t>,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&lt;domConten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&lt;domElem&gt;::= </a:t>
            </a:r>
            <a:r>
              <a:rPr b="1" lang="it-IT" sz="1600" spc="-1" strike="noStrike">
                <a:solidFill>
                  <a:srgbClr val="3366ff"/>
                </a:solidFill>
                <a:latin typeface="Times New Roman"/>
              </a:rPr>
              <a:t>natural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it-IT" sz="1600" spc="-1" strike="noStrike">
                <a:solidFill>
                  <a:srgbClr val="3366ff"/>
                </a:solidFill>
                <a:latin typeface="Times New Roman"/>
              </a:rPr>
              <a:t>natural..nat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&lt; constraintList &gt; ::= &lt;constraint&gt; | &lt;constraint&gt; &lt; constraintList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&lt;constraint&gt;::=&lt;varName&gt;&lt;op&gt;&lt; varName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&lt;op&gt;::= </a:t>
            </a:r>
            <a:r>
              <a:rPr b="1" lang="it-IT" sz="1600" spc="-1" strike="noStrike">
                <a:solidFill>
                  <a:srgbClr val="3366ff"/>
                </a:solidFill>
                <a:latin typeface="Times New Roman"/>
              </a:rPr>
              <a:t>=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it-IT" sz="1600" spc="-1" strike="noStrike">
                <a:solidFill>
                  <a:srgbClr val="3366ff"/>
                </a:solidFill>
                <a:latin typeface="Times New Roman"/>
              </a:rPr>
              <a:t>!=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|  </a:t>
            </a:r>
            <a:r>
              <a:rPr b="1" lang="it-IT" sz="1600" spc="-1" strike="noStrike">
                <a:solidFill>
                  <a:srgbClr val="3366ff"/>
                </a:solidFill>
                <a:latin typeface="Times New Roman"/>
              </a:rPr>
              <a:t>&gt;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it-IT" sz="1600" spc="-1" strike="noStrike">
                <a:solidFill>
                  <a:srgbClr val="3366ff"/>
                </a:solidFill>
                <a:latin typeface="Times New Roman"/>
              </a:rPr>
              <a:t>&lt;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it-IT" sz="1600" spc="-1" strike="noStrike">
                <a:solidFill>
                  <a:srgbClr val="3366ff"/>
                </a:solidFill>
                <a:latin typeface="Times New Roman"/>
              </a:rPr>
              <a:t>&gt;=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it-IT" sz="1600" spc="-1" strike="noStrike">
                <a:solidFill>
                  <a:srgbClr val="3366ff"/>
                </a:solidFill>
                <a:latin typeface="Times New Roman"/>
              </a:rPr>
              <a:t>&lt;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54200" y="1700280"/>
            <a:ext cx="806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Un arco A(i,j) è consistente se per ogni valore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appartenente a Di esiste almeno un valore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appartenente a Dj tale che il vincolo tra i e j sia soddisfatto. Un constraintgraph è arc-consistente se ogni suo arco è consisten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1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Arc-consist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272960" y="3141720"/>
            <a:ext cx="6684120" cy="3691440"/>
            <a:chOff x="1272960" y="3141720"/>
            <a:chExt cx="6684120" cy="3691440"/>
          </a:xfrm>
        </p:grpSpPr>
        <p:sp>
          <p:nvSpPr>
            <p:cNvPr id="190" name=""/>
            <p:cNvSpPr/>
            <p:nvPr/>
          </p:nvSpPr>
          <p:spPr>
            <a:xfrm flipV="1">
              <a:off x="5089680" y="4812840"/>
              <a:ext cx="194292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032520" y="5102280"/>
              <a:ext cx="28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81320" y="5641920"/>
              <a:ext cx="6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33600" y="538956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≤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4584240" y="5821200"/>
              <a:ext cx="36036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30400" y="594828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57680" y="4813200"/>
              <a:ext cx="86328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930400" y="5030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865680" y="5821200"/>
              <a:ext cx="35856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93680" y="589428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2136600" y="3662280"/>
              <a:ext cx="5032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12560" y="3589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36600" y="4309920"/>
              <a:ext cx="50328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38040" y="43099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19520" y="380520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88920" y="39495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6080" y="380520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037280" y="39495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00240" y="3625920"/>
              <a:ext cx="28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70040" y="33735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68960" y="463392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86040" y="438156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168960" y="362592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89280" y="33735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986440" y="380520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40200" y="39495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808600" y="445284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X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943880" y="4454640"/>
              <a:ext cx="88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[1..10,5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08600" y="344484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X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520240" y="314172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[1,2,5..3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39880" y="445284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X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81320" y="4741920"/>
              <a:ext cx="65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[1,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20960" y="394956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X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72960" y="3949560"/>
              <a:ext cx="65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[1..1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39880" y="344484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X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496960" y="3141720"/>
              <a:ext cx="65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[1..1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20960" y="546264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X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6960" y="517536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[1..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26040" y="618156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X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81680" y="65260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[1..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88240" y="445284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X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72240" y="4870440"/>
              <a:ext cx="106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[1..5,10..1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29320" y="546264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X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24520" y="5589720"/>
              <a:ext cx="56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[1..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888240" y="344484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X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12480" y="314172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[1..5,9,1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1322280" y="4011120"/>
              <a:ext cx="505080" cy="21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2546280" y="3219480"/>
              <a:ext cx="50472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12560" y="4211640"/>
              <a:ext cx="65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[3..1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41640" y="3147840"/>
              <a:ext cx="65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[3..1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2330280" y="4803840"/>
              <a:ext cx="360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496960" y="4957920"/>
              <a:ext cx="65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3627360" y="5236920"/>
              <a:ext cx="43200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5067360" y="5668920"/>
              <a:ext cx="4316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706920" y="493236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[2..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18200" y="581184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[2..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5499000" y="3219120"/>
              <a:ext cx="936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6578640" y="3219120"/>
              <a:ext cx="936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4994280" y="4516200"/>
              <a:ext cx="720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6723000" y="4947840"/>
              <a:ext cx="936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22640" y="3147840"/>
              <a:ext cx="65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[2,5,9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299360" y="3419640"/>
              <a:ext cx="65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[2,5,9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299720" y="457200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[1..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050440" y="4660920"/>
              <a:ext cx="88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[2..10,5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08000" y="11592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Distributed CSP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8240" y="1699200"/>
            <a:ext cx="517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 CSP può essere partizionato su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gent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332000" y="2282760"/>
            <a:ext cx="3097080" cy="2299680"/>
            <a:chOff x="1332000" y="2282760"/>
            <a:chExt cx="3097080" cy="2299680"/>
          </a:xfrm>
        </p:grpSpPr>
        <p:grpSp>
          <p:nvGrpSpPr>
            <p:cNvPr id="257" name=""/>
            <p:cNvGrpSpPr/>
            <p:nvPr/>
          </p:nvGrpSpPr>
          <p:grpSpPr>
            <a:xfrm>
              <a:off x="1569960" y="2676600"/>
              <a:ext cx="2570040" cy="1493280"/>
              <a:chOff x="1569960" y="2676600"/>
              <a:chExt cx="2570040" cy="1493280"/>
            </a:xfrm>
          </p:grpSpPr>
          <p:sp>
            <p:nvSpPr>
              <p:cNvPr id="258" name=""/>
              <p:cNvSpPr/>
              <p:nvPr/>
            </p:nvSpPr>
            <p:spPr>
              <a:xfrm flipV="1">
                <a:off x="3098520" y="3336120"/>
                <a:ext cx="937440" cy="38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612160" y="3736080"/>
                <a:ext cx="31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2855160" y="3822480"/>
                <a:ext cx="173520" cy="24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021760" y="3336480"/>
                <a:ext cx="416520" cy="38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508120" y="3822480"/>
                <a:ext cx="173160" cy="24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1674000" y="2781360"/>
                <a:ext cx="242640" cy="1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674000" y="3093840"/>
                <a:ext cx="242640" cy="1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003400" y="2850120"/>
                <a:ext cx="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052160" y="2850120"/>
                <a:ext cx="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090520" y="2763720"/>
                <a:ext cx="135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19440" y="3249720"/>
                <a:ext cx="34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619440" y="2763720"/>
                <a:ext cx="34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531240" y="2850120"/>
                <a:ext cx="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445560" y="3162600"/>
                <a:ext cx="173520" cy="173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700" spc="-1" strike="noStrike">
                    <a:solidFill>
                      <a:srgbClr val="000000"/>
                    </a:solidFill>
                    <a:latin typeface="Times New Roman"/>
                  </a:rPr>
                  <a:t>X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445560" y="2676600"/>
                <a:ext cx="173520" cy="173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700" spc="-1" strike="noStrike">
                    <a:solidFill>
                      <a:srgbClr val="000000"/>
                    </a:solidFill>
                    <a:latin typeface="Times New Roman"/>
                  </a:rPr>
                  <a:t>X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916640" y="3162600"/>
                <a:ext cx="173520" cy="173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700" spc="-1" strike="noStrike">
                    <a:solidFill>
                      <a:srgbClr val="000000"/>
                    </a:solidFill>
                    <a:latin typeface="Times New Roman"/>
                  </a:rPr>
                  <a:t>X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569960" y="2919960"/>
                <a:ext cx="173880" cy="173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700" spc="-1" strike="noStrike">
                    <a:solidFill>
                      <a:srgbClr val="000000"/>
                    </a:solidFill>
                    <a:latin typeface="Times New Roman"/>
                  </a:rPr>
                  <a:t>X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916640" y="2676600"/>
                <a:ext cx="173520" cy="173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700" spc="-1" strike="noStrike">
                    <a:solidFill>
                      <a:srgbClr val="000000"/>
                    </a:solidFill>
                    <a:latin typeface="Times New Roman"/>
                  </a:rPr>
                  <a:t>X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438280" y="3649320"/>
                <a:ext cx="173520" cy="173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700" spc="-1" strike="noStrike">
                    <a:solidFill>
                      <a:srgbClr val="000000"/>
                    </a:solidFill>
                    <a:latin typeface="Times New Roman"/>
                  </a:rPr>
                  <a:t>X8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682000" y="3996360"/>
                <a:ext cx="173520" cy="173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700" spc="-1" strike="noStrike">
                    <a:solidFill>
                      <a:srgbClr val="000000"/>
                    </a:solidFill>
                    <a:latin typeface="Times New Roman"/>
                  </a:rPr>
                  <a:t>X1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966480" y="3162600"/>
                <a:ext cx="173520" cy="173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700" spc="-1" strike="noStrike">
                    <a:solidFill>
                      <a:srgbClr val="000000"/>
                    </a:solidFill>
                    <a:latin typeface="Times New Roman"/>
                  </a:rPr>
                  <a:t>X7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924640" y="3649320"/>
                <a:ext cx="173520" cy="173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700" spc="-1" strike="noStrike">
                    <a:solidFill>
                      <a:srgbClr val="000000"/>
                    </a:solidFill>
                    <a:latin typeface="Times New Roman"/>
                  </a:rPr>
                  <a:t>X9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966480" y="2676600"/>
                <a:ext cx="173520" cy="173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700" spc="-1" strike="noStrike">
                    <a:solidFill>
                      <a:srgbClr val="000000"/>
                    </a:solidFill>
                    <a:latin typeface="Times New Roman"/>
                  </a:rPr>
                  <a:t>X6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1332000" y="2282760"/>
              <a:ext cx="3097080" cy="1944720"/>
            </a:xfrm>
            <a:prstGeom prst="ellipse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56000" y="4153320"/>
              <a:ext cx="815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k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= 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5580000" y="2571840"/>
            <a:ext cx="2737080" cy="2010600"/>
            <a:chOff x="5580000" y="2571840"/>
            <a:chExt cx="2737080" cy="2010600"/>
          </a:xfrm>
        </p:grpSpPr>
        <p:grpSp>
          <p:nvGrpSpPr>
            <p:cNvPr id="284" name=""/>
            <p:cNvGrpSpPr/>
            <p:nvPr/>
          </p:nvGrpSpPr>
          <p:grpSpPr>
            <a:xfrm>
              <a:off x="5673600" y="2662200"/>
              <a:ext cx="2570040" cy="1493640"/>
              <a:chOff x="5673600" y="2662200"/>
              <a:chExt cx="2570040" cy="1493640"/>
            </a:xfrm>
          </p:grpSpPr>
          <p:sp>
            <p:nvSpPr>
              <p:cNvPr id="285" name=""/>
              <p:cNvSpPr/>
              <p:nvPr/>
            </p:nvSpPr>
            <p:spPr>
              <a:xfrm flipV="1">
                <a:off x="7202160" y="3321720"/>
                <a:ext cx="937440" cy="38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715800" y="3722040"/>
                <a:ext cx="31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6958800" y="3808440"/>
                <a:ext cx="173520" cy="24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125400" y="3322080"/>
                <a:ext cx="416520" cy="38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611760" y="3808440"/>
                <a:ext cx="173160" cy="24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5777640" y="2766960"/>
                <a:ext cx="242640" cy="1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777640" y="3079440"/>
                <a:ext cx="242640" cy="1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107040" y="2835720"/>
                <a:ext cx="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155800" y="2835720"/>
                <a:ext cx="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194160" y="2749320"/>
                <a:ext cx="135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723080" y="3235680"/>
                <a:ext cx="34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723080" y="2749320"/>
                <a:ext cx="34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634880" y="2835720"/>
                <a:ext cx="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549200" y="3148200"/>
                <a:ext cx="173520" cy="173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700" spc="-1" strike="noStrike">
                    <a:solidFill>
                      <a:srgbClr val="000000"/>
                    </a:solidFill>
                    <a:latin typeface="Times New Roman"/>
                  </a:rPr>
                  <a:t>X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549200" y="2662200"/>
                <a:ext cx="173520" cy="173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700" spc="-1" strike="noStrike">
                    <a:solidFill>
                      <a:srgbClr val="000000"/>
                    </a:solidFill>
                    <a:latin typeface="Times New Roman"/>
                  </a:rPr>
                  <a:t>X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020280" y="3148200"/>
                <a:ext cx="173520" cy="173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700" spc="-1" strike="noStrike">
                    <a:solidFill>
                      <a:srgbClr val="000000"/>
                    </a:solidFill>
                    <a:latin typeface="Times New Roman"/>
                  </a:rPr>
                  <a:t>X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673600" y="2905560"/>
                <a:ext cx="173880" cy="173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700" spc="-1" strike="noStrike">
                    <a:solidFill>
                      <a:srgbClr val="000000"/>
                    </a:solidFill>
                    <a:latin typeface="Times New Roman"/>
                  </a:rPr>
                  <a:t>X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020280" y="2662200"/>
                <a:ext cx="173520" cy="173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700" spc="-1" strike="noStrike">
                    <a:solidFill>
                      <a:srgbClr val="000000"/>
                    </a:solidFill>
                    <a:latin typeface="Times New Roman"/>
                  </a:rPr>
                  <a:t>X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41920" y="3635280"/>
                <a:ext cx="173520" cy="173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700" spc="-1" strike="noStrike">
                    <a:solidFill>
                      <a:srgbClr val="000000"/>
                    </a:solidFill>
                    <a:latin typeface="Times New Roman"/>
                  </a:rPr>
                  <a:t>X8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785640" y="3982320"/>
                <a:ext cx="173520" cy="173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700" spc="-1" strike="noStrike">
                    <a:solidFill>
                      <a:srgbClr val="000000"/>
                    </a:solidFill>
                    <a:latin typeface="Times New Roman"/>
                  </a:rPr>
                  <a:t>X1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8070120" y="3148200"/>
                <a:ext cx="173520" cy="173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700" spc="-1" strike="noStrike">
                    <a:solidFill>
                      <a:srgbClr val="000000"/>
                    </a:solidFill>
                    <a:latin typeface="Times New Roman"/>
                  </a:rPr>
                  <a:t>X7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028280" y="3635280"/>
                <a:ext cx="173520" cy="173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700" spc="-1" strike="noStrike">
                    <a:solidFill>
                      <a:srgbClr val="000000"/>
                    </a:solidFill>
                    <a:latin typeface="Times New Roman"/>
                  </a:rPr>
                  <a:t>X9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070120" y="2662200"/>
                <a:ext cx="173520" cy="173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700" spc="-1" strike="noStrike">
                    <a:solidFill>
                      <a:srgbClr val="000000"/>
                    </a:solidFill>
                    <a:latin typeface="Times New Roman"/>
                  </a:rPr>
                  <a:t>X6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5580000" y="2787480"/>
              <a:ext cx="360360" cy="360360"/>
            </a:xfrm>
            <a:prstGeom prst="ellipse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940360" y="2571840"/>
              <a:ext cx="360360" cy="360360"/>
            </a:xfrm>
            <a:prstGeom prst="ellipse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940360" y="3075120"/>
              <a:ext cx="360360" cy="360360"/>
            </a:xfrm>
            <a:prstGeom prst="ellipse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43640" y="3506760"/>
              <a:ext cx="360360" cy="360360"/>
            </a:xfrm>
            <a:prstGeom prst="ellipse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48360" y="3506760"/>
              <a:ext cx="360360" cy="360360"/>
            </a:xfrm>
            <a:prstGeom prst="ellipse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659640" y="3867120"/>
              <a:ext cx="360360" cy="360360"/>
            </a:xfrm>
            <a:prstGeom prst="ellipse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451640" y="2571840"/>
              <a:ext cx="360360" cy="360360"/>
            </a:xfrm>
            <a:prstGeom prst="ellipse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956720" y="2571840"/>
              <a:ext cx="360360" cy="360360"/>
            </a:xfrm>
            <a:prstGeom prst="ellipse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56720" y="3075120"/>
              <a:ext cx="360360" cy="360360"/>
            </a:xfrm>
            <a:prstGeom prst="ellipse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451640" y="3075120"/>
              <a:ext cx="360360" cy="360360"/>
            </a:xfrm>
            <a:prstGeom prst="ellipse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37320" y="4153320"/>
              <a:ext cx="816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k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3060720" y="4437000"/>
            <a:ext cx="3600360" cy="2444400"/>
            <a:chOff x="3060720" y="4437000"/>
            <a:chExt cx="3600360" cy="2444400"/>
          </a:xfrm>
        </p:grpSpPr>
        <p:grpSp>
          <p:nvGrpSpPr>
            <p:cNvPr id="320" name=""/>
            <p:cNvGrpSpPr/>
            <p:nvPr/>
          </p:nvGrpSpPr>
          <p:grpSpPr>
            <a:xfrm>
              <a:off x="3154320" y="4583160"/>
              <a:ext cx="3217680" cy="1869840"/>
              <a:chOff x="3154320" y="4583160"/>
              <a:chExt cx="3217680" cy="1869840"/>
            </a:xfrm>
          </p:grpSpPr>
          <p:sp>
            <p:nvSpPr>
              <p:cNvPr id="321" name=""/>
              <p:cNvSpPr/>
              <p:nvPr/>
            </p:nvSpPr>
            <p:spPr>
              <a:xfrm flipV="1">
                <a:off x="5068080" y="5409360"/>
                <a:ext cx="1173600" cy="47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459320" y="5909760"/>
                <a:ext cx="390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4763160" y="6018120"/>
                <a:ext cx="21744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719880" y="5409360"/>
                <a:ext cx="521640" cy="47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328640" y="6018120"/>
                <a:ext cx="2167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3284640" y="4713840"/>
                <a:ext cx="303840" cy="17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284640" y="5105520"/>
                <a:ext cx="303840" cy="17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696840" y="4800600"/>
                <a:ext cx="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261840" y="4800600"/>
                <a:ext cx="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806280" y="4692240"/>
                <a:ext cx="169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720040" y="5301000"/>
                <a:ext cx="435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20040" y="4692240"/>
                <a:ext cx="435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609880" y="4800600"/>
                <a:ext cx="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502600" y="5191560"/>
                <a:ext cx="217440" cy="217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Times New Roman"/>
                  </a:rPr>
                  <a:t>X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502600" y="4583160"/>
                <a:ext cx="217440" cy="217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Times New Roman"/>
                  </a:rPr>
                  <a:t>X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588480" y="5191560"/>
                <a:ext cx="217440" cy="217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Times New Roman"/>
                  </a:rPr>
                  <a:t>X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154320" y="4887720"/>
                <a:ext cx="217800" cy="217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Times New Roman"/>
                  </a:rPr>
                  <a:t>X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88480" y="4583160"/>
                <a:ext cx="217440" cy="217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Times New Roman"/>
                  </a:rPr>
                  <a:t>X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241520" y="5801400"/>
                <a:ext cx="217440" cy="217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Times New Roman"/>
                  </a:rPr>
                  <a:t>X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546440" y="6235560"/>
                <a:ext cx="217440" cy="217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Times New Roman"/>
                  </a:rPr>
                  <a:t>X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154560" y="5191560"/>
                <a:ext cx="217440" cy="217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Times New Roman"/>
                  </a:rPr>
                  <a:t>X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850280" y="5801400"/>
                <a:ext cx="217440" cy="217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Times New Roman"/>
                  </a:rPr>
                  <a:t>X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154560" y="4583160"/>
                <a:ext cx="217440" cy="217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Times New Roman"/>
                  </a:rPr>
                  <a:t>X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3060720" y="4508640"/>
              <a:ext cx="1008000" cy="1008000"/>
            </a:xfrm>
            <a:prstGeom prst="ellipse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140360" y="5516640"/>
              <a:ext cx="1008000" cy="1008000"/>
            </a:xfrm>
            <a:prstGeom prst="ellipse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221440" y="4437000"/>
              <a:ext cx="1439640" cy="1079640"/>
            </a:xfrm>
            <a:prstGeom prst="ellipse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116240" y="6452280"/>
              <a:ext cx="1392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1 ≤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k 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≤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11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Distributed CSP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55640" y="1740960"/>
            <a:ext cx="8137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gni variabile è associata a uno e un solo agente e tale agente è detto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esponsab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i quella variabi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 vincoli riguardanti due variabili appartenenti allo stesso agente sono associati unicamente a tale agente e sono chiamati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nternal constra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 vincolo che coinvolge due variabili legate a due agenti diversi è associato ad entrambi gli agenti e viene definito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xternal constra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 due agenti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ndividono un vincolo esterno si dice c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è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vicin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o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eighbou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di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 vicevers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eighbourhoo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i un agente è quindi definito come l’insieme di tutti i suoi vicin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 ogni agente è associato un CSP costituito dalle variabili di cui è responsabile e dai vincoli intern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gni agente deve essere in grado di rendere il grafo di vincoli corrispondente a tale CSP arc-consisten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4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7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0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3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" dur="5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9" dur="500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 flipV="1">
            <a:off x="4578480" y="3506400"/>
            <a:ext cx="19429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521320" y="379584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570120" y="43354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22400" y="408312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4073040" y="4514760"/>
            <a:ext cx="36036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19200" y="464184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46480" y="3506760"/>
            <a:ext cx="863280" cy="792360"/>
          </a:xfrm>
          <a:prstGeom prst="line">
            <a:avLst/>
          </a:prstGeom>
          <a:ln w="93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419200" y="372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9933"/>
                </a:solidFill>
                <a:latin typeface="Times New Roman"/>
              </a:rPr>
              <a:t>&l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354480" y="4514760"/>
            <a:ext cx="35856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282480" y="458784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1625760" y="2355840"/>
            <a:ext cx="502920" cy="28728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701720" y="2282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9933"/>
                </a:solidFill>
                <a:latin typeface="Times New Roman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25760" y="3003480"/>
            <a:ext cx="502920" cy="287280"/>
          </a:xfrm>
          <a:prstGeom prst="line">
            <a:avLst/>
          </a:prstGeom>
          <a:ln w="93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626840" y="3003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9933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308320" y="2498760"/>
            <a:ext cx="0" cy="647640"/>
          </a:xfrm>
          <a:prstGeom prst="line">
            <a:avLst/>
          </a:prstGeom>
          <a:ln w="93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77720" y="2643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9933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554880" y="24987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526080" y="2643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489040" y="2319480"/>
            <a:ext cx="2808360" cy="0"/>
          </a:xfrm>
          <a:prstGeom prst="line">
            <a:avLst/>
          </a:prstGeom>
          <a:ln w="93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58840" y="2066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9933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657760" y="33274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874840" y="307512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657760" y="23194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78440" y="2066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475240" y="24987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29000" y="2643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297400" y="314640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X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97400" y="213840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X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128680" y="3146400"/>
            <a:ext cx="360360" cy="360360"/>
          </a:xfrm>
          <a:prstGeom prst="ellipse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9933"/>
                </a:solidFill>
                <a:latin typeface="Times New Roman"/>
              </a:rPr>
              <a:t>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09760" y="2643120"/>
            <a:ext cx="360360" cy="360360"/>
          </a:xfrm>
          <a:prstGeom prst="ellipse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9933"/>
                </a:solidFill>
                <a:latin typeface="Times New Roman"/>
              </a:rPr>
              <a:t>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28680" y="2138400"/>
            <a:ext cx="360360" cy="360360"/>
          </a:xfrm>
          <a:prstGeom prst="ellipse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9933"/>
                </a:solidFill>
                <a:latin typeface="Times New Roman"/>
              </a:rPr>
              <a:t>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209760" y="415620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X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714840" y="487512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X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377040" y="314640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X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218120" y="415620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X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377040" y="213840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X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78000" y="1922400"/>
            <a:ext cx="1728720" cy="1728720"/>
          </a:xfrm>
          <a:prstGeom prst="ellipse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12920" y="3795840"/>
            <a:ext cx="1584360" cy="158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50000" y="1922400"/>
            <a:ext cx="2162160" cy="180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46000" y="2546280"/>
            <a:ext cx="636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ff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585880" y="4489560"/>
            <a:ext cx="636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110360" y="2546280"/>
            <a:ext cx="63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11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DCSP – Esempi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183440" y="3292560"/>
            <a:ext cx="1925640" cy="28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9933"/>
                </a:solidFill>
                <a:latin typeface="Times New Roman"/>
              </a:rPr>
              <a:t>Agent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9933"/>
                </a:solidFill>
                <a:latin typeface="Times New Roman"/>
              </a:rPr>
              <a:t>Vari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9933"/>
                </a:solidFill>
                <a:latin typeface="Times New Roman"/>
              </a:rPr>
              <a:t>x1::[1..1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9933"/>
                </a:solidFill>
                <a:latin typeface="Times New Roman"/>
              </a:rPr>
              <a:t>x2::[1..1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9933"/>
                </a:solidFill>
                <a:latin typeface="Times New Roman"/>
              </a:rPr>
              <a:t>x3::[1,5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9933"/>
                </a:solidFill>
                <a:latin typeface="Times New Roman"/>
              </a:rPr>
              <a:t>Constra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9933"/>
                </a:solidFill>
                <a:latin typeface="Times New Roman"/>
              </a:rPr>
              <a:t>x1=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9933"/>
                </a:solidFill>
                <a:latin typeface="Times New Roman"/>
              </a:rPr>
              <a:t>x1&gt;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9933"/>
                </a:solidFill>
                <a:latin typeface="Times New Roman"/>
              </a:rPr>
              <a:t>x2&gt;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9933"/>
                </a:solidFill>
                <a:latin typeface="Times New Roman"/>
              </a:rPr>
              <a:t>External Constra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9933"/>
                </a:solidFill>
                <a:latin typeface="Times New Roman"/>
              </a:rPr>
              <a:t>x2&gt;x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9933"/>
                </a:solidFill>
                <a:latin typeface="Times New Roman"/>
              </a:rPr>
              <a:t>x3&lt;x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 flipV="1">
            <a:off x="4578480" y="3506400"/>
            <a:ext cx="19429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521320" y="379584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570120" y="43354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722400" y="408312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4073040" y="4514760"/>
            <a:ext cx="36036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219200" y="464184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346480" y="3506760"/>
            <a:ext cx="863280" cy="792360"/>
          </a:xfrm>
          <a:prstGeom prst="line">
            <a:avLst/>
          </a:prstGeom>
          <a:ln w="93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419200" y="372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9933"/>
                </a:solidFill>
                <a:latin typeface="Times New Roman"/>
              </a:rPr>
              <a:t>&l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354480" y="4514760"/>
            <a:ext cx="35856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282480" y="458784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1625760" y="2355840"/>
            <a:ext cx="502920" cy="28728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701720" y="2282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9933"/>
                </a:solidFill>
                <a:latin typeface="Times New Roman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625760" y="3003480"/>
            <a:ext cx="502920" cy="287280"/>
          </a:xfrm>
          <a:prstGeom prst="line">
            <a:avLst/>
          </a:prstGeom>
          <a:ln w="93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626840" y="3003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9933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308320" y="2498760"/>
            <a:ext cx="0" cy="647640"/>
          </a:xfrm>
          <a:prstGeom prst="line">
            <a:avLst/>
          </a:prstGeom>
          <a:ln w="93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77720" y="2643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9933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554880" y="24987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526080" y="2643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489040" y="2319480"/>
            <a:ext cx="2808360" cy="0"/>
          </a:xfrm>
          <a:prstGeom prst="line">
            <a:avLst/>
          </a:prstGeom>
          <a:ln w="93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58840" y="2066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9933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657760" y="33274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74840" y="307512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657760" y="23194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878440" y="2066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475240" y="24987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229000" y="2643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297400" y="314640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X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297400" y="213840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X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128680" y="3146400"/>
            <a:ext cx="360360" cy="360360"/>
          </a:xfrm>
          <a:prstGeom prst="ellipse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9933"/>
                </a:solidFill>
                <a:latin typeface="Times New Roman"/>
              </a:rPr>
              <a:t>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409760" y="2643120"/>
            <a:ext cx="360360" cy="360360"/>
          </a:xfrm>
          <a:prstGeom prst="ellipse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9933"/>
                </a:solidFill>
                <a:latin typeface="Times New Roman"/>
              </a:rPr>
              <a:t>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28680" y="2138400"/>
            <a:ext cx="360360" cy="360360"/>
          </a:xfrm>
          <a:prstGeom prst="ellipse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9933"/>
                </a:solidFill>
                <a:latin typeface="Times New Roman"/>
              </a:rPr>
              <a:t>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209760" y="415620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X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714840" y="487512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X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377040" y="314640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X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218120" y="415620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X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377040" y="213840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X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278000" y="1922400"/>
            <a:ext cx="1728720" cy="1728720"/>
          </a:xfrm>
          <a:prstGeom prst="ellipse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112920" y="3795840"/>
            <a:ext cx="1584360" cy="158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950000" y="1922400"/>
            <a:ext cx="2162160" cy="180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46000" y="2546280"/>
            <a:ext cx="636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ff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585880" y="4489560"/>
            <a:ext cx="636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110360" y="2546280"/>
            <a:ext cx="63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11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DCSP – Esempi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183440" y="3292560"/>
            <a:ext cx="1925640" cy="28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9933"/>
                </a:solidFill>
                <a:latin typeface="Times New Roman"/>
              </a:rPr>
              <a:t>Agent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9933"/>
                </a:solidFill>
                <a:latin typeface="Times New Roman"/>
              </a:rPr>
              <a:t>Vari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9933"/>
                </a:solidFill>
                <a:latin typeface="Times New Roman"/>
              </a:rPr>
              <a:t>x1::[1..1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9933"/>
                </a:solidFill>
                <a:latin typeface="Times New Roman"/>
              </a:rPr>
              <a:t>x2::[1..1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9933"/>
                </a:solidFill>
                <a:latin typeface="Times New Roman"/>
              </a:rPr>
              <a:t>x3::[1,5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9933"/>
                </a:solidFill>
                <a:latin typeface="Times New Roman"/>
              </a:rPr>
              <a:t>Constra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9933"/>
                </a:solidFill>
                <a:latin typeface="Times New Roman"/>
              </a:rPr>
              <a:t>x1=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9933"/>
                </a:solidFill>
                <a:latin typeface="Times New Roman"/>
              </a:rPr>
              <a:t>x1&gt;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9933"/>
                </a:solidFill>
                <a:latin typeface="Times New Roman"/>
              </a:rPr>
              <a:t>x2&gt;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9933"/>
                </a:solidFill>
                <a:latin typeface="Times New Roman"/>
              </a:rPr>
              <a:t>External Constra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9933"/>
                </a:solidFill>
                <a:latin typeface="Times New Roman"/>
              </a:rPr>
              <a:t>x2&gt;x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9933"/>
                </a:solidFill>
                <a:latin typeface="Times New Roman"/>
              </a:rPr>
              <a:t>x3&lt;x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46000" y="3219480"/>
            <a:ext cx="6264360" cy="1008000"/>
          </a:xfrm>
          <a:prstGeom prst="wedgeRoundRectCallout">
            <a:avLst>
              <a:gd name="adj1" fmla="val 50685"/>
              <a:gd name="adj2" fmla="val 81810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&lt;distributedConstraintProblem&gt;::=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&lt;constraintProble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3366ff"/>
                </a:solidFill>
                <a:latin typeface="Times New Roman"/>
              </a:rPr>
              <a:t>External Constra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&lt; constraintList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cesca</cp:lastModifiedBy>
  <dcterms:modified xsi:type="dcterms:W3CDTF">2004-09-06T15:42:34Z</dcterms:modified>
  <cp:revision>285</cp:revision>
  <dc:subject/>
  <dc:title>PowerPoint Presentation</dc:title>
</cp:coreProperties>
</file>